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16BE0-2AD9-4C37-BBF7-2506F4EE5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0861D-9051-437A-BBBF-B64FBF5BA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E3248-060D-4EF1-A665-B7579437E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CA964-2159-46B3-A960-E6085676D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2701B-7F27-4858-91F4-78D688FE5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1C38B-1D65-4989-9C0C-5164A445B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2A981-4FFB-4F26-8879-A1F054981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9EE01-DEF0-49FE-9CE5-654463BEF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69FD8-A375-479F-AE2D-390F750CA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A1273-2669-444D-A8E0-BBC575BCB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ED296-5B45-4562-8178-5268F710A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3E56C-750A-48CB-BF32-D64D93C77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5D5B7-D4E1-4958-A773-D4897C898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DBD21-34F2-41DE-AA62-E00030365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936C1-907B-44C9-B5E4-98F45CD5E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20522-8E3E-471C-9473-A390675A2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D55A4-836F-4A74-BF84-72688C244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6013E-693C-40BE-A1F6-978AD3A09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EFE6B-5ACE-4B54-B6D1-3AB941E4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9431A-8F04-46B8-8F0E-E6486C1EB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214A3-54EA-48E7-A251-014C3105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15EC-1AF9-45EC-A9B6-2BCF8969E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3298-14BC-43DC-86CB-5EEE7CDCB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1D8F-FC69-497C-B9D4-98EAD5A55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92A5-2B55-42B0-93A1-82C4414CB6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F1B5-C328-47E1-A29C-9646B43729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5400" spc="-1" strike="noStrike">
                <a:solidFill>
                  <a:srgbClr val="000000"/>
                </a:solidFill>
                <a:latin typeface="Arial"/>
              </a:rPr>
              <a:t>Экологическая оценка: основные понятия и принципы</a:t>
            </a:r>
            <a:br>
              <a:rPr sz="5400"/>
            </a:b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FAB8307D-A6AF-4878-85C8-9D0DD997F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000" spc="-1" strike="noStrike">
                <a:solidFill>
                  <a:srgbClr val="330033"/>
                </a:solidFill>
                <a:latin typeface="Times New Roman"/>
              </a:rPr>
              <a:t>Участники</a:t>
            </a:r>
            <a:r>
              <a:rPr b="0" i="1" lang="en-US" sz="4000" spc="-1" strike="noStrike">
                <a:solidFill>
                  <a:srgbClr val="330033"/>
                </a:solidFill>
                <a:latin typeface="Times New Roman"/>
              </a:rPr>
              <a:t> </a:t>
            </a:r>
            <a:r>
              <a:rPr b="0" lang="en-US" sz="4000" spc="-1" strike="noStrike">
                <a:solidFill>
                  <a:srgbClr val="330033"/>
                </a:solidFill>
                <a:latin typeface="Times New Roman"/>
              </a:rPr>
              <a:t>процесса ЭО</a:t>
            </a:r>
            <a:br>
              <a:rPr sz="4000"/>
            </a:br>
            <a:endParaRPr b="0" lang="en-US" sz="4000" spc="-1" strike="noStrike">
              <a:solidFill>
                <a:srgbClr val="330033"/>
              </a:solidFill>
              <a:latin typeface="Times New Roman"/>
            </a:endParaRPr>
          </a:p>
        </p:txBody>
      </p:sp>
      <p:sp>
        <p:nvSpPr>
          <p:cNvPr id="119" name="PlaceHolder 2"/>
          <p:cNvSpPr>
            <a:spLocks noGrp="1"/>
          </p:cNvSpPr>
          <p:nvPr>
            <p:ph/>
          </p:nvPr>
        </p:nvSpPr>
        <p:spPr>
          <a:xfrm>
            <a:off x="761760" y="1599840"/>
            <a:ext cx="7924680" cy="4724280"/>
          </a:xfrm>
          <a:prstGeom prst="rect">
            <a:avLst/>
          </a:prstGeom>
          <a:noFill/>
          <a:ln w="0">
            <a:noFill/>
          </a:ln>
        </p:spPr>
        <p:txBody>
          <a:bodyPr lIns="90000" rIns="90000" tIns="46800" bIns="46800" anchor="t">
            <a:normAutofit/>
          </a:bodyPr>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ициатор деятельности</a:t>
            </a:r>
            <a:endParaRPr b="0" lang="en-US" sz="36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пециально уполномоченные органы</a:t>
            </a:r>
            <a:endParaRPr b="0" lang="en-US" sz="36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ругие заинтересованные стороны</a:t>
            </a:r>
            <a:endParaRPr b="0" lang="en-US" sz="36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сполнители</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E806DC9-A81D-4B52-9896-FE9B18B17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33"/>
                </a:solidFill>
                <a:latin typeface="Times New Roman"/>
              </a:rPr>
              <a:t>Инициатор деятельности</a:t>
            </a:r>
            <a:endParaRPr b="0" lang="en-US" sz="40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Это — юридическое или физическое лицо, ответственное за планирование (проектирование) и осуществление намечаемой деятельности, своего рода “хозяин” намечаемой деятельности. В роли инициатора могут выступать как государственные органы, так и частные компании.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огласно российскому законодательству, ответственным за организацию оценки воздействия на окружающую среду, а также за представление документации на экологическую экспертизу является “заказчик документации, подлежащей экспертизе”. Именно термин “заказчик” мы определяем и используем во второй части книги, при рассмотрении российской системы ЭО.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67FF1E-E714-4A7E-B83A-EC0F8300C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Специально уполномоченные органы</a:t>
            </a:r>
            <a:br>
              <a:rPr sz="3600"/>
            </a:br>
            <a:endParaRPr b="0" lang="en-US" sz="36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3000"/>
          </a:bodyPr>
          <a:p>
            <a:pPr marL="49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Это — органы или организации, имеющие те или иные полномочия по отношению к процессу экологической оценки или намечаемой деятельности в целом. Можно выделить три основные функции таких органов в процессе ЭО: </a:t>
            </a:r>
            <a:endParaRPr b="0" lang="en-US" sz="1400" spc="-1" strike="noStrike">
              <a:solidFill>
                <a:srgbClr val="000000"/>
              </a:solidFill>
              <a:latin typeface="Arial"/>
            </a:endParaRPr>
          </a:p>
          <a:p>
            <a:pPr lvl="1" marL="885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Контроль за процессом ЭО</a:t>
            </a:r>
            <a:r>
              <a:rPr b="0" lang="en-US" sz="1400" spc="-1" strike="noStrike">
                <a:solidFill>
                  <a:srgbClr val="000000"/>
                </a:solidFill>
                <a:latin typeface="Arial"/>
              </a:rPr>
              <a:t> </a:t>
            </a:r>
            <a:endParaRPr b="0" lang="en-US" sz="1400" spc="-1" strike="noStrike">
              <a:solidFill>
                <a:srgbClr val="000000"/>
              </a:solidFill>
              <a:latin typeface="Arial"/>
            </a:endParaRPr>
          </a:p>
          <a:p>
            <a:pPr marL="49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Эту функцию, как правило, выполняют подразделения национального министерства охраны окружающей среды или специальные агентства по ЭО, государственные или независимые, но формируемые государством. В их задачи входит контроль соблюдения процедуры ЭО, а также проверка качества документации по ЭО. При этом основным предметом такой проверки является достаточность информации для принятия решений, ее достоверность и адекватность представления. </a:t>
            </a:r>
            <a:endParaRPr b="0" lang="en-US" sz="1400" spc="-1" strike="noStrike">
              <a:solidFill>
                <a:srgbClr val="000000"/>
              </a:solidFill>
              <a:latin typeface="Arial"/>
            </a:endParaRPr>
          </a:p>
          <a:p>
            <a:pPr lvl="1" marL="885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ринятие решения по итогам экологической оценки</a:t>
            </a:r>
            <a:r>
              <a:rPr b="0" lang="en-US" sz="1400" spc="-1" strike="noStrike">
                <a:solidFill>
                  <a:srgbClr val="000000"/>
                </a:solidFill>
                <a:latin typeface="Arial"/>
              </a:rPr>
              <a:t> </a:t>
            </a:r>
            <a:endParaRPr b="0" lang="en-US" sz="1400" spc="-1" strike="noStrike">
              <a:solidFill>
                <a:srgbClr val="000000"/>
              </a:solidFill>
              <a:latin typeface="Arial"/>
            </a:endParaRPr>
          </a:p>
          <a:p>
            <a:pPr marL="49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актически во всех странах решение о возможности осуществления намечаемой деятельности в целом принимают государственные органы, выдавая разрешение, лицензию и т.п. Во многих национальных системах материалы ЭО используются при принятии общего решения о возможности осуществления намечаемой деятельности. В таких системах контроль процедуры и качества документации и принятие решения разделены и относятся к компетенции разных организаций. В то же время, в ряде систем обязательное решение по итогам экологической оценки принимается теми же органами, которые контролируют качество ЭО. </a:t>
            </a:r>
            <a:endParaRPr b="0" lang="en-US" sz="1400" spc="-1" strike="noStrike">
              <a:solidFill>
                <a:srgbClr val="000000"/>
              </a:solidFill>
              <a:latin typeface="Arial"/>
            </a:endParaRPr>
          </a:p>
          <a:p>
            <a:pPr lvl="1" marL="885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Согласование отдельных аспектов намечаемой деятельности</a:t>
            </a:r>
            <a:r>
              <a:rPr b="0" lang="en-US" sz="1400" spc="-1" strike="noStrike">
                <a:solidFill>
                  <a:srgbClr val="000000"/>
                </a:solidFill>
                <a:latin typeface="Arial"/>
              </a:rPr>
              <a:t> </a:t>
            </a:r>
            <a:endParaRPr b="0" lang="en-US" sz="1400" spc="-1" strike="noStrike">
              <a:solidFill>
                <a:srgbClr val="000000"/>
              </a:solidFill>
              <a:latin typeface="Arial"/>
            </a:endParaRPr>
          </a:p>
          <a:p>
            <a:pPr marL="49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ледует упомянуть и различные специализированные органы, например агентства, ответственные за охрану вод, лесов, здоровья населения и т.д. Эти органы ответственны за согласование (лицензирование, выдачу разрешения) отдельных аспектов намечаемой деятельности, которые могут включать, например, использование определенных ресурсов, объем выбросов и т.п. Как правило, эти органы используют содержание материалов экологической оценки при принятии соответствующего решения.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EB6BA9C-68D4-42E2-91F4-9022BBFAA8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Другие заинтересованные стороны </a:t>
            </a:r>
            <a:endParaRPr b="0" lang="en-US" sz="38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уществление любого крупного проекта, и, в частности, его экологические аспекты затрагивают разнообразные интересы общества в целом, многочисленных организаций, социальных групп и отдельных граждан. Согласование интересов с этими сторонами или, по крайней мере, учет их интересов при планировании намечаемой деятельности составляет одну из важнейших задач экологической оценки. Процесс взаимодействия с заинтересованными сторонами в ходе ЭО обычно характеризуется как “консультации и участие общественност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оль заинтересованных сторон в процессе ЭО: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ставляют свои интересы, а также интересы других, иногда более широких групп;</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гут предоставлять информацию, необходимую или ценную для проведения Э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интересованные стороны в процессе ЭО могут быть, в частности, представлены </a:t>
            </a:r>
            <a:r>
              <a:rPr b="1" lang="en-US" sz="1800" spc="-1" strike="noStrike">
                <a:solidFill>
                  <a:srgbClr val="000000"/>
                </a:solidFill>
                <a:latin typeface="Arial"/>
              </a:rPr>
              <a:t>государственными органами,</a:t>
            </a:r>
            <a:r>
              <a:rPr b="0" lang="en-US" sz="1800" spc="-1" strike="noStrike">
                <a:solidFill>
                  <a:srgbClr val="000000"/>
                </a:solidFill>
                <a:latin typeface="Arial"/>
              </a:rPr>
              <a:t> — например, специализированными агентствами, в сферу компетенции которых входит тот или иной аспект намечаемой деятельности, или органами местного самоуправления.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65048A-F75B-4D74-85FC-CC542F7CD9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0033"/>
                </a:solidFill>
                <a:latin typeface="Times New Roman"/>
              </a:rPr>
              <a:t>Исполнители</a:t>
            </a:r>
            <a:br>
              <a:rPr sz="4000"/>
            </a:br>
            <a:endParaRPr b="0" lang="en-US" sz="40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Это профессиональные исполнители, которые могут привлекаться различными участниками процесса ЭО для решения различных задач. Так, инициатор деятельности может использовать услуги сторонних организаций для разработки проектной документации или специализированной компании. Государственные организации могут приглашать консультантов для оценки качества документации по ЭО, а общественность может привлекать экспертов для независимой оценки тех или иных аспектов намечаемой деятельности. Строго говоря, исполнители не являются самостоятельными участниками процесса и выполняют задачи, поставленные пригласившим их участником, который и несет перед “внешними” сторонами ответственность за результаты их работы.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D36970-6C70-4010-B7E0-6A2954CEA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0"/>
            <a:ext cx="80010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0033"/>
                </a:solidFill>
                <a:latin typeface="Times New Roman"/>
              </a:rPr>
              <a:t>Элементы процесса ЭО: участие общественности и рассмотрение альтернатив</a:t>
            </a:r>
            <a:br>
              <a:rPr sz="2800"/>
            </a:br>
            <a:endParaRPr b="0" lang="en-US" sz="3200" spc="-1" strike="noStrike">
              <a:solidFill>
                <a:srgbClr val="330033"/>
              </a:solidFill>
              <a:latin typeface="Times New Roman"/>
            </a:endParaRPr>
          </a:p>
        </p:txBody>
      </p:sp>
      <p:sp>
        <p:nvSpPr>
          <p:cNvPr id="129" name="PlaceHolder 2"/>
          <p:cNvSpPr>
            <a:spLocks noGrp="1"/>
          </p:cNvSpPr>
          <p:nvPr>
            <p:ph/>
          </p:nvPr>
        </p:nvSpPr>
        <p:spPr>
          <a:xfrm>
            <a:off x="914400" y="1752480"/>
            <a:ext cx="7772400" cy="437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Мы обозначили основные элементы процесса экологической оценки. Некоторые из них — </a:t>
            </a:r>
            <a:r>
              <a:rPr b="0" i="1" lang="en-US" sz="2800" spc="-1" strike="noStrike">
                <a:solidFill>
                  <a:srgbClr val="000000"/>
                </a:solidFill>
                <a:latin typeface="Arial"/>
              </a:rPr>
              <a:t>участие общественности</a:t>
            </a:r>
            <a:r>
              <a:rPr b="0" lang="en-US" sz="2800" spc="-1" strike="noStrike">
                <a:solidFill>
                  <a:srgbClr val="000000"/>
                </a:solidFill>
                <a:latin typeface="Arial"/>
              </a:rPr>
              <a:t> и </a:t>
            </a:r>
            <a:r>
              <a:rPr b="0" i="1" lang="en-US" sz="2800" spc="-1" strike="noStrike">
                <a:solidFill>
                  <a:srgbClr val="000000"/>
                </a:solidFill>
                <a:latin typeface="Arial"/>
              </a:rPr>
              <a:t>рассмотрение альтернатив</a:t>
            </a:r>
            <a:r>
              <a:rPr b="0" lang="en-US" sz="2800" spc="-1" strike="noStrike">
                <a:solidFill>
                  <a:srgbClr val="000000"/>
                </a:solidFill>
                <a:latin typeface="Arial"/>
              </a:rPr>
              <a:t> — не могут быть связаны с каким-либо одним этапом процесса ЭО. Их присутствие на ключевых этапах является важным условием эффективности всего процесса.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A1926C-595C-4D30-B772-87A804F264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Участие общественности </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но служит инструментом для </a:t>
            </a:r>
            <a:r>
              <a:rPr b="1" lang="en-US" sz="2800" spc="-1" strike="noStrike">
                <a:solidFill>
                  <a:srgbClr val="000000"/>
                </a:solidFill>
                <a:latin typeface="Arial"/>
              </a:rPr>
              <a:t>согласования интересов различных групп, решения различных задач экологической оценки. </a:t>
            </a:r>
            <a:r>
              <a:rPr b="0" lang="en-US" sz="2800" spc="-1" strike="noStrike">
                <a:solidFill>
                  <a:srgbClr val="000000"/>
                </a:solidFill>
                <a:latin typeface="Arial"/>
              </a:rPr>
              <a:t>Кроме того, независимо от практических задач процесса ЭО, участие общественности в этом процессе имеет самостоятельную ценность как </a:t>
            </a:r>
            <a:r>
              <a:rPr b="1" lang="en-US" sz="2800" spc="-1" strike="noStrike">
                <a:solidFill>
                  <a:srgbClr val="000000"/>
                </a:solidFill>
                <a:latin typeface="Arial"/>
              </a:rPr>
              <a:t>реализация права граждан</a:t>
            </a:r>
            <a:r>
              <a:rPr b="0" lang="en-US" sz="2800" spc="-1" strike="noStrike">
                <a:solidFill>
                  <a:srgbClr val="000000"/>
                </a:solidFill>
                <a:latin typeface="Arial"/>
              </a:rPr>
              <a:t> на получение информации и участие в принятии экологически значимых решений.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2FDC53-9DD4-4A3C-BAAE-B2DDB77B0F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33"/>
                </a:solidFill>
                <a:latin typeface="Times New Roman"/>
              </a:rPr>
              <a:t>Рассмотрение альтернатив</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3"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4" name=""/>
          <p:cNvSpPr txBox="1"/>
          <p:nvPr/>
        </p:nvSpPr>
        <p:spPr>
          <a:xfrm>
            <a:off x="914400" y="1599840"/>
            <a:ext cx="7772400" cy="4535640"/>
          </a:xfrm>
          <a:prstGeom prst="rect">
            <a:avLst/>
          </a:prstGeom>
          <a:noFill/>
          <a:ln w="0">
            <a:noFill/>
          </a:ln>
        </p:spPr>
        <p:txBody>
          <a:bodyPr lIns="90000" rIns="90000" tIns="46800" bIns="46800"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ажнейшей задачей ЭО является уменьшение отрицательных и увеличение положительных воздействий намечаемой деятельности. При этом сами понятия уменьшения (увеличения) предполагают сравнение с другими вариантами решений, ведущих к той же цели. Можно сказать, что экологическая оценка на безальтернативной основе вообще не имеет смысла. </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Кроме того, выбор варианта из числа исследованных альтернатив является одним из способов учета результатов ЭО в принятии решений. В хорошо организованном процессе ЭО рассмотрение альтернатив проходит через большинство стадий — от их определения на ранних этапах процесса, через анализ на стадии прогноза воздействий и обсуждение с заинтересованными сторонами, и до принятия решений по итогам ЭО.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6982C54-3C31-45CB-BCF7-130F752005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Принцип превентивности и стратегическая экологическая оценка</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36" name="PlaceHolder 2"/>
          <p:cNvSpPr>
            <a:spLocks noGrp="1"/>
          </p:cNvSpPr>
          <p:nvPr>
            <p:ph/>
          </p:nvPr>
        </p:nvSpPr>
        <p:spPr>
          <a:xfrm>
            <a:off x="914400" y="15998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Следствием принципа превентивности является то, что оценка деятельности должна осуществляться до фактического принятия (а не до формального утверждения) соответствующего решения, следовательно, предметом экологической оценки должен быть план или программа. Такая оценка называется </a:t>
            </a:r>
            <a:r>
              <a:rPr b="1" lang="en-US" sz="2800" spc="-1" strike="noStrike">
                <a:solidFill>
                  <a:srgbClr val="000000"/>
                </a:solidFill>
                <a:latin typeface="Arial"/>
              </a:rPr>
              <a:t>стратегической экологической оценкой (СЭО).</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7377337-2D67-4311-B4E8-BADCEC0800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Times New Roman"/>
              </a:rPr>
              <a:t>Заключение</a:t>
            </a:r>
            <a:endParaRPr b="0" lang="en-US" sz="40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800" spc="-1" strike="noStrike">
                <a:solidFill>
                  <a:srgbClr val="000000"/>
                </a:solidFill>
                <a:latin typeface="Arial"/>
              </a:rPr>
              <a:t>Экологическая оценка, несомненно, является одним из наиболее распространенных инструментов современной экологической политики.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Ее успех изначально основан на широком признании той истины, что легче выявить и предотвратить негативные экологические последствия деятельности на стадии планирования, чем обнаружить и исправлять их на стадии осуществления.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26D789-21C8-4649-A6C7-626EE1AAE9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Экологическая</a:t>
            </a:r>
            <a:r>
              <a:rPr b="1" lang="en-US" sz="4200" spc="-1" strike="noStrike">
                <a:solidFill>
                  <a:srgbClr val="330033"/>
                </a:solidFill>
                <a:latin typeface="Times New Roman"/>
              </a:rPr>
              <a:t> </a:t>
            </a:r>
            <a:r>
              <a:rPr b="0" lang="en-US" sz="4200" spc="-1" strike="noStrike">
                <a:solidFill>
                  <a:srgbClr val="330033"/>
                </a:solidFill>
                <a:latin typeface="Times New Roman"/>
              </a:rPr>
              <a:t>оценка</a:t>
            </a:r>
            <a:endParaRPr b="0" lang="en-US" sz="4200" spc="-1" strike="noStrike">
              <a:solidFill>
                <a:srgbClr val="330033"/>
              </a:solidFill>
              <a:latin typeface="Times New Roman"/>
            </a:endParaRPr>
          </a:p>
        </p:txBody>
      </p:sp>
      <p:sp>
        <p:nvSpPr>
          <p:cNvPr id="9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Экологическая оценка</a:t>
            </a:r>
            <a:r>
              <a:rPr b="0" lang="en-US" sz="2800" spc="-1" strike="noStrike">
                <a:solidFill>
                  <a:srgbClr val="000000"/>
                </a:solidFill>
                <a:latin typeface="Arial"/>
              </a:rPr>
              <a:t> — это процесс систематического анализа и оценки экологических последствий намечаемой деятельности, консультаций с заинтересованными сторонами, а также учет результатов этого анализа и консультаций в планировании, проектировании, утверждении и осуществлении данной деятельности.</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65022C-992A-4D6D-A58F-8BA4628376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380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Согласно данному определению:</a:t>
            </a:r>
            <a:r>
              <a:rPr b="0" lang="en-US" sz="3800" spc="-1" strike="noStrike">
                <a:solidFill>
                  <a:srgbClr val="330033"/>
                </a:solidFill>
                <a:latin typeface="Times New Roman"/>
              </a:rPr>
              <a:t> </a:t>
            </a:r>
            <a:br>
              <a:rPr sz="3800"/>
            </a:br>
            <a:endParaRPr b="0" lang="en-US" sz="3800" spc="-1" strike="noStrike">
              <a:solidFill>
                <a:srgbClr val="330033"/>
              </a:solidFill>
              <a:latin typeface="Times New Roman"/>
            </a:endParaRPr>
          </a:p>
        </p:txBody>
      </p:sp>
      <p:sp>
        <p:nvSpPr>
          <p:cNvPr id="100" name="PlaceHolder 2"/>
          <p:cNvSpPr>
            <a:spLocks noGrp="1"/>
          </p:cNvSpPr>
          <p:nvPr>
            <p:ph/>
          </p:nvPr>
        </p:nvSpPr>
        <p:spPr>
          <a:xfrm>
            <a:off x="228240" y="1599840"/>
            <a:ext cx="84582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кологическая оценка рассматривается как процесс, а не просто как данные или документы, которые получаются в результате этого процесса;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кологическая оценка рассматривается как процесс систематический, то есть следующий определенным правилам;</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кологическая оценка не ограничивается этапом планирования, но охватывает и этап осуществления намечаемой деятельности.</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1301DE-1517-44C3-8CE7-E738900E40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Основные составляющие процесса экологической оценки </a:t>
            </a:r>
            <a:endParaRPr b="0" lang="en-US" sz="3800" spc="-1" strike="noStrike">
              <a:solidFill>
                <a:srgbClr val="330033"/>
              </a:solidFill>
              <a:latin typeface="Times New Roman"/>
            </a:endParaRPr>
          </a:p>
        </p:txBody>
      </p:sp>
      <p:sp>
        <p:nvSpPr>
          <p:cNvPr id="102" name="PlaceHolder 2"/>
          <p:cNvSpPr>
            <a:spLocks noGrp="1"/>
          </p:cNvSpPr>
          <p:nvPr>
            <p:ph/>
          </p:nvPr>
        </p:nvSpPr>
        <p:spPr>
          <a:xfrm>
            <a:off x="304560" y="1599840"/>
            <a:ext cx="83818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нализ (прогноз) потенциальных воздействий намечаемой деятельности на окружающую среду и оценка их значимости;</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сультации с заинтересованными сторонами с целью поиска взаимоприемлемых решений;</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пользование результатов прогноза воздействий и консультаций в процессе принятия решений, относящихся к намечаемой деятельности.</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31E256-FA7C-44FD-A0A7-51855A30F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Принципы</a:t>
            </a:r>
            <a:r>
              <a:rPr b="0" lang="en-US" sz="4200" spc="-1" strike="noStrike">
                <a:solidFill>
                  <a:srgbClr val="330033"/>
                </a:solidFill>
                <a:latin typeface="Times New Roman"/>
              </a:rPr>
              <a:t> </a:t>
            </a:r>
            <a:r>
              <a:rPr b="0" lang="en-US" sz="4400" spc="-1" strike="noStrike">
                <a:solidFill>
                  <a:srgbClr val="330033"/>
                </a:solidFill>
                <a:latin typeface="Times New Roman"/>
              </a:rPr>
              <a:t>ЭО</a:t>
            </a: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ревентивности</a:t>
            </a:r>
            <a:endParaRPr b="0" lang="en-US" sz="3600" spc="-1" strike="noStrike">
              <a:solidFill>
                <a:srgbClr val="000000"/>
              </a:solidFill>
              <a:latin typeface="Arial"/>
            </a:endParaRPr>
          </a:p>
          <a:p>
            <a:pPr marL="533520" indent="-53352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омплексности </a:t>
            </a:r>
            <a:endParaRPr b="0" lang="en-US" sz="3600" spc="-1" strike="noStrike">
              <a:solidFill>
                <a:srgbClr val="000000"/>
              </a:solidFill>
              <a:latin typeface="Arial"/>
            </a:endParaRPr>
          </a:p>
          <a:p>
            <a:pPr marL="533520" indent="-53352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емократичности</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94D6634-5DF3-4449-9B32-9EA9272E4D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Принцип превентивности </a:t>
            </a:r>
            <a:endParaRPr b="0" lang="en-US" sz="4200" spc="-1" strike="noStrike">
              <a:solidFill>
                <a:srgbClr val="330033"/>
              </a:solidFill>
              <a:latin typeface="Times New Roman"/>
            </a:endParaRPr>
          </a:p>
        </p:txBody>
      </p:sp>
      <p:sp>
        <p:nvSpPr>
          <p:cNvPr id="106" name="PlaceHolder 2"/>
          <p:cNvSpPr>
            <a:spLocks noGrp="1"/>
          </p:cNvSpPr>
          <p:nvPr>
            <p:ph/>
          </p:nvPr>
        </p:nvSpPr>
        <p:spPr>
          <a:xfrm>
            <a:off x="380520" y="1599840"/>
            <a:ext cx="80010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ринцип превентивности</a:t>
            </a:r>
            <a:r>
              <a:rPr b="0" lang="en-US" sz="2000" spc="-1" strike="noStrike">
                <a:solidFill>
                  <a:srgbClr val="000000"/>
                </a:solidFill>
                <a:latin typeface="Arial"/>
              </a:rPr>
              <a:t> означает, что ЭО проводится </a:t>
            </a:r>
            <a:r>
              <a:rPr b="0" i="1" lang="en-US" sz="2000" spc="-1" strike="noStrike">
                <a:solidFill>
                  <a:srgbClr val="000000"/>
                </a:solidFill>
                <a:latin typeface="Arial"/>
              </a:rPr>
              <a:t>до принятия</a:t>
            </a:r>
            <a:r>
              <a:rPr b="0" lang="en-US" sz="2000" spc="-1" strike="noStrike">
                <a:solidFill>
                  <a:srgbClr val="000000"/>
                </a:solidFill>
                <a:latin typeface="Arial"/>
              </a:rPr>
              <a:t> основных решений по реализации намечаемой деятельности, а также, что ее результаты </a:t>
            </a:r>
            <a:r>
              <a:rPr b="0" i="1" lang="en-US" sz="2000" spc="-1" strike="noStrike">
                <a:solidFill>
                  <a:srgbClr val="000000"/>
                </a:solidFill>
                <a:latin typeface="Arial"/>
              </a:rPr>
              <a:t>используются при выработке и принятии решений</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ширенное понимание превентивност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О должна проводиться не только до принятия решения о возможности осуществления намечаемой деятельности (например, выдачи соответствующего разрешения), но и до принятия важнейших проектных решений. Наконец, последовательная реализация принципа превентивности приводит к необходимости с</a:t>
            </a:r>
            <a:r>
              <a:rPr b="1" lang="en-US" sz="2000" spc="-1" strike="noStrike">
                <a:solidFill>
                  <a:srgbClr val="000000"/>
                </a:solidFill>
                <a:latin typeface="Arial"/>
              </a:rPr>
              <a:t>тратегической экологической оценки</a:t>
            </a:r>
            <a:r>
              <a:rPr b="0" lang="en-US" sz="2000" spc="-1" strike="noStrike">
                <a:solidFill>
                  <a:srgbClr val="000000"/>
                </a:solidFill>
                <a:latin typeface="Arial"/>
              </a:rPr>
              <a:t> </a:t>
            </a:r>
            <a:r>
              <a:rPr b="1" lang="en-US" sz="2000" spc="-1" strike="noStrike">
                <a:solidFill>
                  <a:srgbClr val="000000"/>
                </a:solidFill>
                <a:latin typeface="Arial"/>
              </a:rPr>
              <a:t>(СЭО)</a:t>
            </a:r>
            <a:r>
              <a:rPr b="0" lang="en-US" sz="2000" spc="-1" strike="noStrike">
                <a:solidFill>
                  <a:srgbClr val="000000"/>
                </a:solidFill>
                <a:latin typeface="Arial"/>
              </a:rPr>
              <a:t>, предметом которой являются решения более высокого уровня, предшествующие планированию конкретных проектов.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D20FA15-34DA-4053-A95E-15554FE8CE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Принцип комплексности</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56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    </a:t>
            </a:r>
            <a:r>
              <a:rPr b="1" i="1" lang="ru-RU" sz="2800" spc="-1" strike="noStrike">
                <a:solidFill>
                  <a:srgbClr val="000000"/>
                </a:solidFill>
                <a:latin typeface="Arial"/>
              </a:rPr>
              <a:t>Принцип комплексности</a:t>
            </a:r>
            <a:r>
              <a:rPr b="0" lang="ru-RU" sz="2800" spc="-1" strike="noStrike">
                <a:solidFill>
                  <a:srgbClr val="000000"/>
                </a:solidFill>
                <a:latin typeface="Arial"/>
              </a:rPr>
              <a:t> подразумевает совместное рассмотрение и учет факторов воздействия намечаемой деятельности и связанных с ними изменений во всех природных средах, а также в социальной среде.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5207FAF-785B-414D-9321-2F5DBE015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Принцип демократичности</a:t>
            </a:r>
            <a:endParaRPr b="0" lang="en-US" sz="3400" spc="-1" strike="noStrike">
              <a:solidFill>
                <a:srgbClr val="330033"/>
              </a:solidFill>
              <a:latin typeface="Times New Roman"/>
            </a:endParaRPr>
          </a:p>
        </p:txBody>
      </p:sp>
      <p:sp>
        <p:nvSpPr>
          <p:cNvPr id="11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1" name=""/>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txBox="1"/>
          <p:nvPr/>
        </p:nvSpPr>
        <p:spPr>
          <a:xfrm>
            <a:off x="761760" y="1599840"/>
            <a:ext cx="8001000" cy="4724280"/>
          </a:xfrm>
          <a:prstGeom prst="rect">
            <a:avLst/>
          </a:prstGeom>
          <a:noFill/>
          <a:ln w="0">
            <a:noFill/>
          </a:ln>
        </p:spPr>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ринцип демократичности</a:t>
            </a:r>
            <a:r>
              <a:rPr b="0" lang="en-US" sz="2000" spc="-1" strike="noStrike">
                <a:solidFill>
                  <a:srgbClr val="000000"/>
                </a:solidFill>
                <a:latin typeface="Arial"/>
              </a:rPr>
              <a:t> Предполагаемое воздействие намечаемой деятельности на окружающую среду затрагивает интересы потенциально неограниченного круга лиц и организаций. Однако принцип демократичности подразумевает признание за этими сторонами права на </a:t>
            </a:r>
            <a:r>
              <a:rPr b="0" i="1" lang="en-US" sz="2000" spc="-1" strike="noStrike">
                <a:solidFill>
                  <a:srgbClr val="000000"/>
                </a:solidFill>
                <a:latin typeface="Arial"/>
              </a:rPr>
              <a:t>непосредственное</a:t>
            </a:r>
            <a:r>
              <a:rPr b="0" lang="en-US" sz="2000" spc="-1" strike="noStrike">
                <a:solidFill>
                  <a:srgbClr val="000000"/>
                </a:solidFill>
                <a:latin typeface="Arial"/>
              </a:rPr>
              <a:t> участие в процессе принятия решений.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Таким образом, заинтересованные стороны должны иметь возможность участвовать в процессе ЭО, и их мнение должно учитываться наряду с заключениями экспертов при формулировании выводов и использовании результатов процесса ЭО.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Для обеспечения возможности участия заинтересованных сторон </a:t>
            </a:r>
            <a:r>
              <a:rPr b="0" i="1" lang="en-US" sz="2000" spc="-1" strike="noStrike">
                <a:solidFill>
                  <a:srgbClr val="000000"/>
                </a:solidFill>
                <a:latin typeface="Arial"/>
              </a:rPr>
              <a:t>экологическая оценка должна проводиться в соответствии с определенными правилами, которые известны и понятны всем ее участникам.</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B030BF-12D0-4B4C-8F28-A17AD249A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3" name=""/>
          <p:cNvSpPr/>
          <p:nvPr/>
        </p:nvSpPr>
        <p:spPr>
          <a:xfrm>
            <a:off x="0" y="116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1800" y="52045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00068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400068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 name=""/>
          <p:cNvSpPr/>
          <p:nvPr/>
        </p:nvSpPr>
        <p:spPr>
          <a:xfrm>
            <a:off x="914400" y="58572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редмет экологической оценки</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
          <p:cNvSpPr/>
          <p:nvPr/>
        </p:nvSpPr>
        <p:spPr>
          <a:xfrm>
            <a:off x="1736640" y="2932200"/>
            <a:ext cx="6569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09480" y="1301400"/>
            <a:ext cx="800100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ЭО</a:t>
            </a:r>
            <a:r>
              <a:rPr b="0" lang="en-US" sz="2000" spc="-1" strike="noStrike">
                <a:solidFill>
                  <a:srgbClr val="000000"/>
                </a:solidFill>
                <a:latin typeface="Arial"/>
              </a:rPr>
              <a:t> - </a:t>
            </a:r>
            <a:r>
              <a:rPr b="0" i="1" lang="en-US" sz="2000" spc="-1" strike="noStrike">
                <a:solidFill>
                  <a:srgbClr val="000000"/>
                </a:solidFill>
                <a:latin typeface="Arial"/>
              </a:rPr>
              <a:t>воздействие намечаемой деятельности на окружающую среду</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гноз и разработка мер по их смягчению являются одной из основных составляющих процесса Э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кружающая среда</a:t>
            </a:r>
            <a:r>
              <a:rPr b="0" lang="en-US" sz="2000" spc="-1" strike="noStrike">
                <a:solidFill>
                  <a:srgbClr val="000000"/>
                </a:solidFill>
                <a:latin typeface="Arial"/>
              </a:rPr>
              <a:t> в контексте Э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ервую очередь, предметом рассмотрения в ходе ЭО являются воздействия на окружающую </a:t>
            </a:r>
            <a:r>
              <a:rPr b="0" i="1" lang="en-US" sz="2000" spc="-1" strike="noStrike">
                <a:solidFill>
                  <a:srgbClr val="000000"/>
                </a:solidFill>
                <a:latin typeface="Arial"/>
              </a:rPr>
              <a:t>природную</a:t>
            </a:r>
            <a:r>
              <a:rPr b="0" lang="en-US" sz="2000" spc="-1" strike="noStrike">
                <a:solidFill>
                  <a:srgbClr val="000000"/>
                </a:solidFill>
                <a:latin typeface="Arial"/>
              </a:rPr>
              <a:t> среду — природные среды, компоненты окружающей среды, ландшафт. Традиционно в ходе ЭО рассматриваются и историко-культурные ценности. Однако практически всегда ЭО в той или иной мере затрагивает медицинские, социальные и экономические последствия намечаемой деятельности, </a:t>
            </a:r>
            <a:r>
              <a:rPr b="0" i="1" lang="en-US" sz="2000" spc="-1" strike="noStrike">
                <a:solidFill>
                  <a:srgbClr val="000000"/>
                </a:solidFill>
                <a:latin typeface="Arial"/>
              </a:rPr>
              <a:t>связанные с воздействием </a:t>
            </a:r>
            <a:r>
              <a:rPr b="0" lang="en-US" sz="2000" spc="-1" strike="noStrike">
                <a:solidFill>
                  <a:srgbClr val="000000"/>
                </a:solidFill>
                <a:latin typeface="Arial"/>
              </a:rPr>
              <a:t>на окружающую природную среду.</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1A3F543-D225-41AE-AE97-811355223F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gim</cp:lastModifiedBy>
  <dcterms:modified xsi:type="dcterms:W3CDTF">2008-05-15T03:14:38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