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10D-262F-4C91-8FF4-BCBFA63E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306-C6F7-4355-AA50-B70B8DE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05D-3F54-4E24-AA88-540E5F95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131-1102-4C73-B947-9A56B671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3C8-8ADD-46CC-BCF2-90E3175E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5BD-68A3-4B41-9591-34655F6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FAF-F1F7-4008-8EEC-E834BBF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1F1-FE6D-4D8B-8D66-628E536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C2E-62AC-49FF-9739-FD451F9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644-4846-4051-8719-5A1C394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688-78F8-4E3F-A3A7-4996921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B9F-4575-4286-869D-A32020F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9B07-4D49-4B5A-91CB-1DB70C078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ы ИСО 14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НТАРИЗАЦИОННЫЙ АНАЛИЗ ЖИЗНЕННОГО ЦИКЛ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e cycle invertory analysi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фаза оценки жизненного цикла, включающая собирание и количественное определение входных и выходных потоков для данной продукционной системы на всех стадиях жизненного цикл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40-99, п. 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ЦИОННАЯ СИСТЕМ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syste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совокупность материально или энергетически связанных единичных процессов, которая выполняет одну или более конкретны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40-99, п. 3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АРНЫЙ ПОТОК (elementary flow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ящие в исследуемую систему материал или энергия, которые были  изъяты из окружающей среды без их предварительного преобразования человеком,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ящие из исследуемой системы материалы или энергия, которые выбрасываются в окружающую среду без их последующего преобразования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40-99, п. 3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5905" t="19196" r="5905" b="7383"/>
          <a:stretch/>
        </p:blipFill>
        <p:spPr>
          <a:xfrm>
            <a:off x="-252360" y="0"/>
            <a:ext cx="93963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23619" t="7752" r="23619" b="9229"/>
          <a:stretch/>
        </p:blipFill>
        <p:spPr>
          <a:xfrm>
            <a:off x="1476360" y="0"/>
            <a:ext cx="5435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деталь ОЖЦ"/>
          <p:cNvPicPr/>
          <p:nvPr/>
        </p:nvPicPr>
        <p:blipFill>
          <a:blip r:embed="rId1"/>
          <a:srcRect l="16773" t="22206" r="5591" b="15545"/>
          <a:stretch/>
        </p:blipFill>
        <p:spPr>
          <a:xfrm>
            <a:off x="971640" y="0"/>
            <a:ext cx="67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 применения ОЖ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чь более полного понимания воздействий на окружающую среду, рисков и возможной ответственности, связанных с конкретной продукцией или усл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эффективность взаимоотношений с поставщиками и потреб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ить окупаемость экологических инвести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ключевые направления совершенствования продукции и процесса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оказатели, которые четко отражают возможные воздействия продукции и услуг на окружающую среду на протяжении всего жизненного цик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тить массив данных о продукционной системе в информацию, которая может быть использована для оценки достижений компании, анализа достигнутых показателей с позиций экологической результативности и с учетом требований устойчивого развития, улучшить взаимоотношения с потреб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ОЯННОЕ УЛУЧШЕНИЕ (continual improvement) - процесс усовершенствования системы управления окружающей средой с целью повышения общей экологической эффективности в соответствии с экологической политик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01, п. 3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ИНТЕРЕСОВАННАЯ СТОРОНА (interested party) - отдельное лицо или группа лиц, которые заинтересованы в экологической эффективности организации или на которые эта эффективность воздей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01, п. 3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o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компания, объединение, фирма, предприятие, орган власти или учреждение либо их часть или сочетание, акционерные или неакционерные, государственные или частные, которые выполняют свои собственные функции и имеют свою собственную админист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01, п. 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 ПОЛИТИК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polic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заявление организации о своих намерениях и принципах, связанных с ее общей экологической эффективностью, которое служит основанием для действия и установления целевых и плановых экологических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01, п. 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О 14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5905" t="11075" r="17714" b="18458"/>
          <a:stretch/>
        </p:blipFill>
        <p:spPr>
          <a:xfrm>
            <a:off x="684360" y="1332000"/>
            <a:ext cx="74898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РУЖАЮЩАЯ СРЕД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- внешняя среда, в которой функционирует организация, включая воздух, воду, землю, природные ресурсы, флору, фауну, человека и их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01, п. 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ЕЙСТВИЕ НА ОКРУЖАЮЩУЮ СРЕДУ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- любое отрицательное или положительное изменение в окружающей среде, полностью или частично являющееся результатом деятельности организации, ее продукции ил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01, п. 3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9 год -Британский стандарт BS 57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BS 5750 в 1987 г. была разработана первая версия стандартов ИСО серии 9000 — систем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S 7750 Спецификации систем экологического менеджмента — первого стандарта систем экологического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3 г. ИСО был создан Технический комитет 207 «Экологический менедж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 принят международный стандарт СЭМ — ISO 14001: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Й АСПЕКТ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aspec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- элемент деятельности организации, ее продукции или услуг, который может взаимодействовать с 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ОСТ Р ИСО 14001, п. 3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ЕВОЙ ЭКОЛОГИЧЕСКИЙ ПОКАЗАТЕЛ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objectiv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ий целевой показатель состояния окружающей среды, вытекающий из экологической политики, которого организация стремится достичь и который выражается количественно, если это ре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01, п. 3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ОВЫЙ ЭКОЛОГИЧЕСКИЙ ПОКАЗАТЕЛ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targe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-детализированное требование в отношении эффективности, выраженное количественно там, где это реально, предъявляемое организации или ее частям, которое вытекает из целевых экологических показателей и которое должно быть установлено и выполнено для того, чтобы достичь целевых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01, п. 3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Ь СОСТОЯНИЯ ОКРУЖАЮЩЕЙ СРЕДЫ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ondition indica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(ПСОС) - показатель состояния окружающей среды в локальном, региональном, национальном или глобальном масшта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31-2001, п. 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чание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ие "региональный" может относиться к области (провинции) или группе областей внутри страны, или к группе стран, или к континенту, в зависимости от масштабности окружающей среды, рассматриваемой организ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ЭКОЛОГИЧЕСКОЙ ЭФФЕКТИВНОСТ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perfomance criterio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- целевой или плановый экологический показатель или другой предусмотренный уровень экологической эффективности, заданный руководством организации и используемый для оценивания экологической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31-2001, п. 3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Ь ЭФФЕКТИВНОСТИ УПРАВЛЕН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perfomance indica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(ПЭУ) - показатель экологической эффективности, обеспечивающий информацию об усилиях руководства, предпринимаемых с целью воздействия на экологическую эффективность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31-2001,п. 3.1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Ь ЭФФЕКТИВНОСТИ ФУНКЦИОНИРОВАН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perfomance indica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(ПЭФ) - показатель экологической эффективности, обеспечивающий информацию об экологической эффективности функционирования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ОСТ Р ИСО 14031-2001, п. 3.10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7"/>
          <p:cNvPicPr/>
          <p:nvPr/>
        </p:nvPicPr>
        <p:blipFill>
          <a:blip r:embed="rId1"/>
          <a:stretch/>
        </p:blipFill>
        <p:spPr>
          <a:xfrm>
            <a:off x="2050920" y="189000"/>
            <a:ext cx="4465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7"/>
          <p:cNvPicPr/>
          <p:nvPr/>
        </p:nvPicPr>
        <p:blipFill>
          <a:blip r:embed="rId1"/>
          <a:srcRect l="1144" t="799" r="1144" b="31944"/>
          <a:stretch/>
        </p:blipFill>
        <p:spPr>
          <a:xfrm>
            <a:off x="1042920" y="0"/>
            <a:ext cx="69073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руководство по ЭУ"/>
          <p:cNvPicPr/>
          <p:nvPr/>
        </p:nvPicPr>
        <p:blipFill>
          <a:blip r:embed="rId1"/>
          <a:srcRect l="13734" t="0" r="0" b="0"/>
          <a:stretch/>
        </p:blipFill>
        <p:spPr>
          <a:xfrm>
            <a:off x="263520" y="189000"/>
            <a:ext cx="88804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414360" y="281160"/>
            <a:ext cx="82296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02960" y="127800"/>
            <a:ext cx="80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 систем менеджмента охраны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836640"/>
          <a:ext cx="8497800" cy="5761080"/>
        </p:xfrm>
        <a:graphic>
          <a:graphicData uri="http://schemas.openxmlformats.org/drawingml/2006/table">
            <a:tbl>
              <a:tblPr/>
              <a:tblGrid>
                <a:gridCol w="2722680"/>
                <a:gridCol w="5775120"/>
              </a:tblGrid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Г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01–9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управления окружающей средой. Требования и руководство по примен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04–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управления окружающей средой. Общие руководящие указания по принципам, системам и средствам обеспечения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10–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ящие указания по экологическому аудиту. Основные принци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11–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ящие указания по экологическому аудиту. Проведение аудита систем управления окружающей сред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12–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ящие указания по экологическому аудиту. Квалификационные критерии для аудиторов в области эколог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50–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кружающей средой. Словарь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40–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кружающей средой. Оценка жизненного цикла. Принципы и струк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41–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кружающей средой. Оценка жизненного цикла. Определение цели, области исследования и инвентаризационный ан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4031–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кружающей средой. Оценивание экологической эффективности. Общие треб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АЯ ЭТИКЕТКА, ЭКОЛОГИЧЕСКАЯ ДЕКЛА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ЭТИКЕТКА, ЭКОЛОГИЧЕСКАЯ ДЕКЛАРАЦ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labe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declar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- заявление, информирующее об экологических аспектах продукции ил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ОСТ Р ИСО 14020-99, п.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ОЕ ЗА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ОЕ ЗАЯВЛЕН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lai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- словесная формулировка, символ или графическое изображение, указывающие на экологический аспект продукции, компонента или упак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ОСТ Р ИСО 14021-2000, п. 3.1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ДЕКЛАРИРУЕМОЕ ЭКОЛОГИЧЕСКОЕ ЗА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ДЕКЛАРИРУЕМОЕ ЭКОЛОГИЧЕСКОЕ ЗАЯВЛ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ed environmental cla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- экологическое заявление изготовителя, импортера, дистрибьютера, розничного торговца или другого лица, которые могут получить выгоду от такого заявления, без сертификации независимой третьей сторо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ОСТ Р ИСО 14021-2000, п. 3.1.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ЭКОЛОГИЧЕСКОЙ МАРКИРОВКИ 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 environmental labbeling programm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добровольная, основанная на многих критериях программа третьей стороны, предусматривающая выдачу лицензии на использование экологической этикетки, свидетельствующей об экологической предпочтительности какой-либо продукции в рамках определенной группы однородной продукции на основе рассмотрения ее жизненног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24-2000, п. 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жизненного ци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ЕННЫЙ ЦИКЛ (life cycle) - последовательные или взаимосвязанные стадии продукционной системы от приобретения сырья или разработки природных ресурсов до утилизации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40-99, п. 3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ЖИЗНЕННОГО ЦИКЛА, ОЖД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e cycle assess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- собирание и оценивание входных и выходных потоков, а также потенциальных воздействий на окружающую среду со стороны продукционной системы на всех стадиях жизненного цикл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СТ Р ИСО 14040-99, п. 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3:26:39Z</dcterms:created>
  <dc:creator>dgim</dc:creator>
  <dc:description/>
  <dc:language>en-US</dc:language>
  <cp:lastModifiedBy>dgim</cp:lastModifiedBy>
  <dcterms:modified xsi:type="dcterms:W3CDTF">2009-04-29T04:39:56Z</dcterms:modified>
  <cp:revision>8</cp:revision>
  <dc:subject/>
  <dc:title>Стандарты ИСО 14000</dc:title>
</cp:coreProperties>
</file>