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5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9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4DF-B755-424A-8B43-6CFAF843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6C0-B2DE-4349-AEF0-BE5CB232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D4C-DF47-4ED5-9CE7-150D0103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B28-CFE3-496A-9D8D-C8D1142C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538-A410-4F24-994D-AB718672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785-6E38-4DCB-ABC8-975DD518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8BF-3142-40BA-B762-11D5B789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CC8-E092-4FAC-ADFF-2C206A7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0E0-95DA-4D71-BF0F-6DBAC073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C44-228C-453D-9CF5-5B889AE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610-5D2B-4FF6-9FEA-0A521B8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D13-B6D7-49B7-8CF8-37CF9F9D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39A9-A3BF-4503-9ACE-7AC2D64EA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гово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97000"/>
          <a:ext cx="8229600" cy="5027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по мас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по мас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Номер слайда 5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6228-355E-4A81-994D-F65443287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 способа размножения различ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9F5-242D-445E-ADA7-12E7D96A3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324000" y="170712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MS Mincho"/>
              </a:rPr>
              <a:t> 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MS Mincho"/>
              </a:rPr>
              <a:t>Панмикт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MS Mincho"/>
              </a:rPr>
              <a:t>Клона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MS Mincho"/>
              </a:rPr>
              <a:t>Клонально- панмиктичес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странственные подразделения популя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30DC-6E37-4EAF-A173-8DD50FC48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http://www.burenina.narod.ru/5.htm1.gif"/>
          <p:cNvPicPr/>
          <p:nvPr/>
        </p:nvPicPr>
        <p:blipFill>
          <a:blip r:embed="rId1"/>
          <a:stretch/>
        </p:blipFill>
        <p:spPr>
          <a:xfrm>
            <a:off x="611280" y="1413000"/>
            <a:ext cx="8064360" cy="4032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0" y="547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MS Mincho"/>
              </a:rPr>
              <a:t>1- ареал вида; 2- географическая популяция; 3- экологическая, или местная популяц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MS Mincho"/>
              </a:rPr>
              <a:t>4- микропопуляция (элементарна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ичественные показатели по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ческие – характеризуют состояние популяции на данный момент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атели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– характеризуют процессы, протекающие в популяции за какой-то промежуток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 роста поп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тические показ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– это общее количество особей на данной территории или в данном объ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– число особей, приходящихся на единицу занимаемого пространства (кол-во чел/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л-во рыб/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88880" y="907920"/>
            <a:ext cx="86551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азатели струк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8280" y="76464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ная структура – соотношение количества особей разного возраста в поп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ая структура – соотношение п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ая структура – характер размещения отдельных особей популяции и их группировок на популяционной территории (ареа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572000" y="393372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" descr="с - 088.gif"/>
          <p:cNvPicPr/>
          <p:nvPr/>
        </p:nvPicPr>
        <p:blipFill>
          <a:blip r:embed="rId1"/>
          <a:stretch/>
        </p:blipFill>
        <p:spPr>
          <a:xfrm>
            <a:off x="-1019016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8717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намические показ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ждаемость - это число особ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рождающихся в популяции за единицу времен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ртность - это число особ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гибших в популяции в единицу време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447560"/>
            <a:ext cx="8675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льная рождаемость – отношение рождаемости к исходной числ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Р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льная смертность – отношение смертности к исходной чис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С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изменения численности популя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льная скорость изменения численности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–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 и популяция находится в стационарном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gt; 0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ем рост попу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lt;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м снижение чис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жи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оля особей, доживших до определенного момента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числа выживших особей от времени (или возраста) называют кривыми вы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овор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rganization Chart 7"/>
          <p:cNvGrpSpPr/>
          <p:nvPr/>
        </p:nvGrpSpPr>
        <p:grpSpPr>
          <a:xfrm>
            <a:off x="431640" y="1585800"/>
            <a:ext cx="8208000" cy="4462920"/>
            <a:chOff x="431640" y="1585800"/>
            <a:chExt cx="8208000" cy="4462920"/>
          </a:xfrm>
        </p:grpSpPr>
        <p:cxnSp>
          <p:nvCxnSpPr>
            <p:cNvPr id="46" name="_s1028"/>
            <p:cNvCxnSpPr>
              <a:stCxn id="47" idx="0"/>
              <a:endCxn id="48" idx="2"/>
            </p:cNvCxnSpPr>
            <p:nvPr/>
          </p:nvCxnSpPr>
          <p:spPr>
            <a:xfrm flipV="1">
              <a:off x="6745320" y="4374720"/>
              <a:ext cx="54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51" idx="2"/>
            </p:cNvCxnSpPr>
            <p:nvPr/>
          </p:nvCxnSpPr>
          <p:spPr>
            <a:xfrm flipV="1">
              <a:off x="2325240" y="4374720"/>
              <a:ext cx="54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30"/>
            <p:cNvCxnSpPr>
              <a:stCxn id="48" idx="0"/>
              <a:endCxn id="53" idx="2"/>
            </p:cNvCxnSpPr>
            <p:nvPr/>
          </p:nvCxnSpPr>
          <p:spPr>
            <a:xfrm flipV="1" rot="16200000">
              <a:off x="5361480" y="1874880"/>
              <a:ext cx="558360" cy="2210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31"/>
            <p:cNvCxnSpPr>
              <a:stCxn id="51" idx="0"/>
              <a:endCxn id="53" idx="2"/>
            </p:cNvCxnSpPr>
            <p:nvPr/>
          </p:nvCxnSpPr>
          <p:spPr>
            <a:xfrm flipH="1" flipV="1" rot="5400000">
              <a:off x="3151800" y="1874520"/>
              <a:ext cx="558360" cy="22107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032"/>
            <p:cNvSpPr/>
            <p:nvPr/>
          </p:nvSpPr>
          <p:spPr>
            <a:xfrm>
              <a:off x="2642040" y="158580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круговороты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431640" y="325944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Большой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Arial"/>
                </a:rPr>
                <a:t>(геологический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4"/>
            <p:cNvSpPr/>
            <p:nvPr/>
          </p:nvSpPr>
          <p:spPr>
            <a:xfrm>
              <a:off x="4851360" y="325944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Arial"/>
                </a:rPr>
                <a:t>малый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Arial"/>
                </a:rPr>
                <a:t>(биологический)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431640" y="493308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ода, почва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4851360" y="493308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, N,O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,S,P</a:t>
              </a: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, и т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B08-0B01-4F20-9F06-3E7B143DF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вые выж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1143000" y="2209680"/>
            <a:ext cx="7000200" cy="4627080"/>
            <a:chOff x="1143000" y="2209680"/>
            <a:chExt cx="7000200" cy="4627080"/>
          </a:xfrm>
        </p:grpSpPr>
        <p:sp>
          <p:nvSpPr>
            <p:cNvPr id="109" name="Line 3"/>
            <p:cNvSpPr/>
            <p:nvPr/>
          </p:nvSpPr>
          <p:spPr>
            <a:xfrm>
              <a:off x="2051640" y="2449800"/>
              <a:ext cx="0" cy="38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"/>
            <p:cNvSpPr/>
            <p:nvPr/>
          </p:nvSpPr>
          <p:spPr>
            <a:xfrm>
              <a:off x="2051640" y="6297120"/>
              <a:ext cx="609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>
              <a:off x="2051640" y="3090960"/>
              <a:ext cx="5091840" cy="320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2084040" y="3154680"/>
              <a:ext cx="5059440" cy="3142080"/>
            </a:xfrm>
            <a:custGeom>
              <a:avLst/>
              <a:gdLst>
                <a:gd name="textAreaLeft" fmla="*/ 0 w 5059440"/>
                <a:gd name="textAreaRight" fmla="*/ 5059800 w 5059440"/>
                <a:gd name="textAreaTop" fmla="*/ 0 h 3142080"/>
                <a:gd name="textAreaBottom" fmla="*/ 3142440 h 3142080"/>
              </a:gdLst>
              <a:ahLst/>
              <a:rect l="textAreaLeft" t="textAreaTop" r="textAreaRight" b="textAreaBottom"/>
              <a:pathLst>
                <a:path w="2671" h="1882">
                  <a:moveTo>
                    <a:pt x="0" y="0"/>
                  </a:moveTo>
                  <a:cubicBezTo>
                    <a:pt x="119" y="4"/>
                    <a:pt x="475" y="8"/>
                    <a:pt x="713" y="25"/>
                  </a:cubicBezTo>
                  <a:cubicBezTo>
                    <a:pt x="951" y="42"/>
                    <a:pt x="1197" y="62"/>
                    <a:pt x="1427" y="100"/>
                  </a:cubicBezTo>
                  <a:cubicBezTo>
                    <a:pt x="1657" y="138"/>
                    <a:pt x="1916" y="162"/>
                    <a:pt x="2091" y="250"/>
                  </a:cubicBezTo>
                  <a:cubicBezTo>
                    <a:pt x="2266" y="338"/>
                    <a:pt x="2393" y="449"/>
                    <a:pt x="2479" y="626"/>
                  </a:cubicBezTo>
                  <a:cubicBezTo>
                    <a:pt x="2565" y="803"/>
                    <a:pt x="2572" y="1105"/>
                    <a:pt x="2604" y="1314"/>
                  </a:cubicBezTo>
                  <a:cubicBezTo>
                    <a:pt x="2636" y="1523"/>
                    <a:pt x="2657" y="1764"/>
                    <a:pt x="2671" y="1882"/>
                  </a:cubicBezTo>
                </a:path>
              </a:pathLst>
            </a:custGeom>
            <a:noFill/>
            <a:ln w="38160">
              <a:solidFill>
                <a:srgbClr val="f503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2142720" y="3171240"/>
              <a:ext cx="5000760" cy="3125520"/>
            </a:xfrm>
            <a:custGeom>
              <a:avLst/>
              <a:gdLst>
                <a:gd name="textAreaLeft" fmla="*/ 0 w 5000760"/>
                <a:gd name="textAreaRight" fmla="*/ 5000760 w 50007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640" h="1872">
                  <a:moveTo>
                    <a:pt x="0" y="0"/>
                  </a:moveTo>
                  <a:cubicBezTo>
                    <a:pt x="20" y="79"/>
                    <a:pt x="71" y="294"/>
                    <a:pt x="119" y="478"/>
                  </a:cubicBezTo>
                  <a:cubicBezTo>
                    <a:pt x="167" y="662"/>
                    <a:pt x="220" y="920"/>
                    <a:pt x="288" y="1104"/>
                  </a:cubicBezTo>
                  <a:cubicBezTo>
                    <a:pt x="356" y="1288"/>
                    <a:pt x="408" y="1480"/>
                    <a:pt x="528" y="1584"/>
                  </a:cubicBezTo>
                  <a:cubicBezTo>
                    <a:pt x="648" y="1688"/>
                    <a:pt x="841" y="1695"/>
                    <a:pt x="1008" y="1728"/>
                  </a:cubicBezTo>
                  <a:cubicBezTo>
                    <a:pt x="1175" y="1761"/>
                    <a:pt x="1344" y="1763"/>
                    <a:pt x="1534" y="1780"/>
                  </a:cubicBezTo>
                  <a:cubicBezTo>
                    <a:pt x="1724" y="1797"/>
                    <a:pt x="1963" y="1815"/>
                    <a:pt x="2147" y="1830"/>
                  </a:cubicBezTo>
                  <a:cubicBezTo>
                    <a:pt x="2331" y="1845"/>
                    <a:pt x="2537" y="1863"/>
                    <a:pt x="2640" y="1872"/>
                  </a:cubicBezTo>
                </a:path>
              </a:pathLst>
            </a:custGeom>
            <a:noFill/>
            <a:ln w="38160">
              <a:solidFill>
                <a:srgbClr val="0bbd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6415920" y="637704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рем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 rot="16200000">
              <a:off x="-367560" y="3720240"/>
              <a:ext cx="38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Число выживающих особ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5234400" y="2770200"/>
              <a:ext cx="4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597560" y="4052880"/>
              <a:ext cx="54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2233800" y="5575680"/>
              <a:ext cx="54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000080" y="16430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основных типа кривых вы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8" descr="Дрозофила"/>
          <p:cNvPicPr/>
          <p:nvPr/>
        </p:nvPicPr>
        <p:blipFill>
          <a:blip r:embed="rId1"/>
          <a:stretch/>
        </p:blipFill>
        <p:spPr>
          <a:xfrm rot="18060000">
            <a:off x="4790160" y="2186640"/>
            <a:ext cx="1425600" cy="215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http://www.cultinfo.ru/fulltext/1/001/010/001/261055276.jpg"/>
          <p:cNvPicPr/>
          <p:nvPr/>
        </p:nvPicPr>
        <p:blipFill>
          <a:blip r:embed="rId2"/>
          <a:srcRect l="22837" t="0" r="0" b="36142"/>
          <a:stretch/>
        </p:blipFill>
        <p:spPr>
          <a:xfrm>
            <a:off x="2916360" y="3357720"/>
            <a:ext cx="1428480" cy="22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http://i03.ru/images/foto1_2.jpg"/>
          <p:cNvPicPr/>
          <p:nvPr/>
        </p:nvPicPr>
        <p:blipFill>
          <a:blip r:embed="rId3"/>
          <a:stretch/>
        </p:blipFill>
        <p:spPr>
          <a:xfrm>
            <a:off x="2700360" y="5494320"/>
            <a:ext cx="17143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роста численности популя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основных типа кривых роста чис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споненциаль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числ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популяции в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исленность популяции в начальный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– основание натурального логариф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казатель, характеризующий темп размножения особей в данной попу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оненциальный рост популяции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образная крива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685800" y="2438280"/>
            <a:ext cx="5257800" cy="4193280"/>
            <a:chOff x="685800" y="2438280"/>
            <a:chExt cx="5257800" cy="4193280"/>
          </a:xfrm>
        </p:grpSpPr>
        <p:sp>
          <p:nvSpPr>
            <p:cNvPr id="127" name="Line 3"/>
            <p:cNvSpPr/>
            <p:nvPr/>
          </p:nvSpPr>
          <p:spPr>
            <a:xfrm>
              <a:off x="1447560" y="2438280"/>
              <a:ext cx="0" cy="32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>
              <a:off x="1447560" y="5714640"/>
              <a:ext cx="449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685800" y="25142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"/>
            <p:cNvSpPr/>
            <p:nvPr/>
          </p:nvSpPr>
          <p:spPr>
            <a:xfrm>
              <a:off x="685800" y="48002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8"/>
            <p:cNvSpPr/>
            <p:nvPr/>
          </p:nvSpPr>
          <p:spPr>
            <a:xfrm flipV="1">
              <a:off x="1447560" y="2818800"/>
              <a:ext cx="2743200" cy="23623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360 h 2362320"/>
                <a:gd name="textAreaBottom" fmla="*/ 2363040 h 2362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1447560" y="518148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4267080" y="6171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рем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2"/>
          <p:cNvSpPr/>
          <p:nvPr/>
        </p:nvSpPr>
        <p:spPr>
          <a:xfrm>
            <a:off x="3581280" y="16002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рост численности особей в неизменяющихся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63198372265907-1"/>
          <p:cNvPicPr/>
          <p:nvPr/>
        </p:nvPicPr>
        <p:blipFill>
          <a:blip r:embed="rId1"/>
          <a:stretch/>
        </p:blipFill>
        <p:spPr>
          <a:xfrm>
            <a:off x="5435640" y="3500280"/>
            <a:ext cx="33717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экологических факторов на скорость роста популяции может довести численность популяции до стабильн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=0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ее умень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ст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ивая роста: скорость роста популяции линейно снижается по мере роста численности до 0 при некоторой предельной численности К (биологическая емкость сре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гистический рост популя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85800" y="4800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0" y="1828800"/>
            <a:ext cx="5181480" cy="4726800"/>
            <a:chOff x="0" y="1828800"/>
            <a:chExt cx="5181480" cy="4726800"/>
          </a:xfrm>
        </p:grpSpPr>
        <p:sp>
          <p:nvSpPr>
            <p:cNvPr id="141" name="Line 4"/>
            <p:cNvSpPr/>
            <p:nvPr/>
          </p:nvSpPr>
          <p:spPr>
            <a:xfrm>
              <a:off x="685800" y="236196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685800" y="563868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45720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685800" y="510516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350496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рем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61760" y="2863800"/>
              <a:ext cx="3843360" cy="2241360"/>
            </a:xfrm>
            <a:custGeom>
              <a:avLst/>
              <a:gdLst>
                <a:gd name="textAreaLeft" fmla="*/ 0 w 3843360"/>
                <a:gd name="textAreaRight" fmla="*/ 3843720 w 3843360"/>
                <a:gd name="textAreaTop" fmla="*/ 0 h 2241360"/>
                <a:gd name="textAreaBottom" fmla="*/ 2241720 h 2241360"/>
              </a:gdLst>
              <a:ahLst/>
              <a:rect l="textAreaLeft" t="textAreaTop" r="textAreaRight" b="textAreaBottom"/>
              <a:pathLst>
                <a:path w="2421" h="1412">
                  <a:moveTo>
                    <a:pt x="0" y="1412"/>
                  </a:moveTo>
                  <a:cubicBezTo>
                    <a:pt x="160" y="1412"/>
                    <a:pt x="317" y="1401"/>
                    <a:pt x="432" y="1364"/>
                  </a:cubicBezTo>
                  <a:cubicBezTo>
                    <a:pt x="547" y="1327"/>
                    <a:pt x="621" y="1271"/>
                    <a:pt x="693" y="1191"/>
                  </a:cubicBezTo>
                  <a:cubicBezTo>
                    <a:pt x="765" y="1111"/>
                    <a:pt x="822" y="984"/>
                    <a:pt x="864" y="884"/>
                  </a:cubicBezTo>
                  <a:cubicBezTo>
                    <a:pt x="906" y="784"/>
                    <a:pt x="919" y="678"/>
                    <a:pt x="943" y="590"/>
                  </a:cubicBezTo>
                  <a:cubicBezTo>
                    <a:pt x="967" y="502"/>
                    <a:pt x="968" y="431"/>
                    <a:pt x="1008" y="356"/>
                  </a:cubicBezTo>
                  <a:cubicBezTo>
                    <a:pt x="1048" y="281"/>
                    <a:pt x="1093" y="195"/>
                    <a:pt x="1181" y="139"/>
                  </a:cubicBezTo>
                  <a:cubicBezTo>
                    <a:pt x="1269" y="83"/>
                    <a:pt x="1397" y="40"/>
                    <a:pt x="1536" y="20"/>
                  </a:cubicBezTo>
                  <a:cubicBezTo>
                    <a:pt x="1675" y="0"/>
                    <a:pt x="1869" y="21"/>
                    <a:pt x="2016" y="20"/>
                  </a:cubicBezTo>
                  <a:cubicBezTo>
                    <a:pt x="2163" y="19"/>
                    <a:pt x="2337" y="15"/>
                    <a:pt x="2421" y="14"/>
                  </a:cubicBezTo>
                </a:path>
              </a:pathLst>
            </a:custGeom>
            <a:noFill/>
            <a:ln w="57240">
              <a:solidFill>
                <a:srgbClr val="0775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685800" y="28954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0" y="2666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5"/>
          <p:cNvSpPr/>
          <p:nvPr/>
        </p:nvSpPr>
        <p:spPr>
          <a:xfrm>
            <a:off x="4038480" y="1828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= K  r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7"/>
          <p:cNvGrpSpPr/>
          <p:nvPr/>
        </p:nvGrpSpPr>
        <p:grpSpPr>
          <a:xfrm>
            <a:off x="5638680" y="4267080"/>
            <a:ext cx="3124440" cy="2362320"/>
            <a:chOff x="5638680" y="4267080"/>
            <a:chExt cx="3124440" cy="2362320"/>
          </a:xfrm>
        </p:grpSpPr>
        <p:sp>
          <p:nvSpPr>
            <p:cNvPr id="151" name="Line 18"/>
            <p:cNvSpPr/>
            <p:nvPr/>
          </p:nvSpPr>
          <p:spPr>
            <a:xfrm flipV="1">
              <a:off x="6629400" y="441936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6629400" y="624816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6095880" y="42670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3"/>
            <p:cNvSpPr/>
            <p:nvPr/>
          </p:nvSpPr>
          <p:spPr>
            <a:xfrm>
              <a:off x="8229600" y="5562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4"/>
            <p:cNvSpPr/>
            <p:nvPr/>
          </p:nvSpPr>
          <p:spPr>
            <a:xfrm>
              <a:off x="6629400" y="5029200"/>
              <a:ext cx="1905120" cy="1600200"/>
            </a:xfrm>
            <a:prstGeom prst="line">
              <a:avLst/>
            </a:prstGeom>
            <a:ln w="38160">
              <a:solidFill>
                <a:srgbClr val="e50796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5"/>
            <p:cNvSpPr/>
            <p:nvPr/>
          </p:nvSpPr>
          <p:spPr>
            <a:xfrm>
              <a:off x="6324480" y="5029200"/>
              <a:ext cx="304920" cy="12189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e507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6"/>
            <p:cNvSpPr/>
            <p:nvPr/>
          </p:nvSpPr>
          <p:spPr>
            <a:xfrm>
              <a:off x="5638680" y="548640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50796"/>
                  </a:solidFill>
                  <a:latin typeface="Tahoma"/>
                </a:rPr>
                <a:t>r</a:t>
              </a:r>
              <a:r>
                <a:rPr b="1" lang="en-US" sz="2800" spc="-1" strike="noStrike" baseline="-25000">
                  <a:solidFill>
                    <a:srgbClr val="e50796"/>
                  </a:solidFill>
                  <a:latin typeface="Tahoma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28" descr="63198372265985-2"/>
          <p:cNvPicPr/>
          <p:nvPr/>
        </p:nvPicPr>
        <p:blipFill>
          <a:blip r:embed="rId1"/>
          <a:stretch/>
        </p:blipFill>
        <p:spPr>
          <a:xfrm>
            <a:off x="5435640" y="2924280"/>
            <a:ext cx="3168720" cy="1187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4"/>
          <p:cNvSpPr/>
          <p:nvPr/>
        </p:nvSpPr>
        <p:spPr>
          <a:xfrm>
            <a:off x="7885080" y="6400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и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тратегии популяц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16360" y="1197000"/>
            <a:ext cx="417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-стратегия обеспечивает выживание за счет качественного совершен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ратегия  - за счет количественн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12020103"/>
          <p:cNvPicPr/>
          <p:nvPr/>
        </p:nvPicPr>
        <p:blipFill>
          <a:blip r:embed="rId1"/>
          <a:stretch/>
        </p:blipFill>
        <p:spPr>
          <a:xfrm>
            <a:off x="272880" y="1125360"/>
            <a:ext cx="3902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BF54-92DB-4EEE-A094-FA06F28CB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3" descr="wpic94.gif"/>
          <p:cNvPicPr/>
          <p:nvPr/>
        </p:nvPicPr>
        <p:blipFill>
          <a:blip r:embed="rId1"/>
          <a:stretch/>
        </p:blipFill>
        <p:spPr>
          <a:xfrm>
            <a:off x="1116000" y="1125360"/>
            <a:ext cx="676908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уляционные вол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ие и непериодические колебания численности популяций под влиянием абиотических и биотических факторов среды называются популяционными вол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численности в сис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03bb"/>
                </a:solidFill>
                <a:latin typeface="Arial"/>
              </a:rPr>
              <a:t>хищ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77511"/>
                </a:solidFill>
                <a:latin typeface="Arial"/>
              </a:rPr>
              <a:t>жер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0"/>
          <p:cNvGrpSpPr/>
          <p:nvPr/>
        </p:nvGrpSpPr>
        <p:grpSpPr>
          <a:xfrm>
            <a:off x="1371600" y="4724280"/>
            <a:ext cx="6553080" cy="1905120"/>
            <a:chOff x="1371600" y="4724280"/>
            <a:chExt cx="6553080" cy="1905120"/>
          </a:xfrm>
        </p:grpSpPr>
        <p:sp>
          <p:nvSpPr>
            <p:cNvPr id="169" name="Line 4"/>
            <p:cNvSpPr/>
            <p:nvPr/>
          </p:nvSpPr>
          <p:spPr>
            <a:xfrm>
              <a:off x="1371600" y="4724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1371600" y="662940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1371600" y="4919760"/>
              <a:ext cx="6264000" cy="1481040"/>
            </a:xfrm>
            <a:custGeom>
              <a:avLst/>
              <a:gdLst>
                <a:gd name="textAreaLeft" fmla="*/ 0 w 6264000"/>
                <a:gd name="textAreaRight" fmla="*/ 6264360 w 626400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3946" h="933">
                  <a:moveTo>
                    <a:pt x="0" y="933"/>
                  </a:moveTo>
                  <a:cubicBezTo>
                    <a:pt x="108" y="929"/>
                    <a:pt x="217" y="921"/>
                    <a:pt x="288" y="885"/>
                  </a:cubicBezTo>
                  <a:cubicBezTo>
                    <a:pt x="359" y="849"/>
                    <a:pt x="382" y="815"/>
                    <a:pt x="428" y="714"/>
                  </a:cubicBezTo>
                  <a:cubicBezTo>
                    <a:pt x="474" y="613"/>
                    <a:pt x="509" y="391"/>
                    <a:pt x="566" y="276"/>
                  </a:cubicBezTo>
                  <a:cubicBezTo>
                    <a:pt x="623" y="161"/>
                    <a:pt x="706" y="42"/>
                    <a:pt x="768" y="21"/>
                  </a:cubicBezTo>
                  <a:cubicBezTo>
                    <a:pt x="830" y="0"/>
                    <a:pt x="902" y="99"/>
                    <a:pt x="941" y="150"/>
                  </a:cubicBezTo>
                  <a:cubicBezTo>
                    <a:pt x="980" y="201"/>
                    <a:pt x="981" y="263"/>
                    <a:pt x="1004" y="326"/>
                  </a:cubicBezTo>
                  <a:cubicBezTo>
                    <a:pt x="1027" y="389"/>
                    <a:pt x="1054" y="468"/>
                    <a:pt x="1079" y="526"/>
                  </a:cubicBezTo>
                  <a:cubicBezTo>
                    <a:pt x="1104" y="584"/>
                    <a:pt x="1118" y="632"/>
                    <a:pt x="1154" y="676"/>
                  </a:cubicBezTo>
                  <a:cubicBezTo>
                    <a:pt x="1190" y="720"/>
                    <a:pt x="1242" y="789"/>
                    <a:pt x="1296" y="789"/>
                  </a:cubicBezTo>
                  <a:cubicBezTo>
                    <a:pt x="1350" y="789"/>
                    <a:pt x="1424" y="740"/>
                    <a:pt x="1480" y="676"/>
                  </a:cubicBezTo>
                  <a:cubicBezTo>
                    <a:pt x="1536" y="612"/>
                    <a:pt x="1586" y="489"/>
                    <a:pt x="1632" y="405"/>
                  </a:cubicBezTo>
                  <a:cubicBezTo>
                    <a:pt x="1678" y="321"/>
                    <a:pt x="1707" y="239"/>
                    <a:pt x="1755" y="175"/>
                  </a:cubicBezTo>
                  <a:cubicBezTo>
                    <a:pt x="1803" y="111"/>
                    <a:pt x="1866" y="38"/>
                    <a:pt x="1920" y="21"/>
                  </a:cubicBezTo>
                  <a:cubicBezTo>
                    <a:pt x="1974" y="4"/>
                    <a:pt x="2029" y="33"/>
                    <a:pt x="2081" y="75"/>
                  </a:cubicBezTo>
                  <a:cubicBezTo>
                    <a:pt x="2133" y="117"/>
                    <a:pt x="2186" y="213"/>
                    <a:pt x="2231" y="276"/>
                  </a:cubicBezTo>
                  <a:cubicBezTo>
                    <a:pt x="2276" y="339"/>
                    <a:pt x="2312" y="386"/>
                    <a:pt x="2352" y="453"/>
                  </a:cubicBezTo>
                  <a:cubicBezTo>
                    <a:pt x="2392" y="520"/>
                    <a:pt x="2425" y="618"/>
                    <a:pt x="2469" y="676"/>
                  </a:cubicBezTo>
                  <a:cubicBezTo>
                    <a:pt x="2513" y="734"/>
                    <a:pt x="2561" y="785"/>
                    <a:pt x="2619" y="802"/>
                  </a:cubicBezTo>
                  <a:cubicBezTo>
                    <a:pt x="2677" y="819"/>
                    <a:pt x="2758" y="805"/>
                    <a:pt x="2819" y="776"/>
                  </a:cubicBezTo>
                  <a:cubicBezTo>
                    <a:pt x="2880" y="747"/>
                    <a:pt x="2932" y="688"/>
                    <a:pt x="2982" y="626"/>
                  </a:cubicBezTo>
                  <a:cubicBezTo>
                    <a:pt x="3032" y="564"/>
                    <a:pt x="3085" y="461"/>
                    <a:pt x="3120" y="405"/>
                  </a:cubicBezTo>
                  <a:cubicBezTo>
                    <a:pt x="3155" y="349"/>
                    <a:pt x="3155" y="328"/>
                    <a:pt x="3195" y="288"/>
                  </a:cubicBezTo>
                  <a:cubicBezTo>
                    <a:pt x="3235" y="248"/>
                    <a:pt x="3309" y="177"/>
                    <a:pt x="3360" y="165"/>
                  </a:cubicBezTo>
                  <a:cubicBezTo>
                    <a:pt x="3411" y="153"/>
                    <a:pt x="3465" y="169"/>
                    <a:pt x="3504" y="213"/>
                  </a:cubicBezTo>
                  <a:cubicBezTo>
                    <a:pt x="3543" y="257"/>
                    <a:pt x="3570" y="363"/>
                    <a:pt x="3596" y="426"/>
                  </a:cubicBezTo>
                  <a:cubicBezTo>
                    <a:pt x="3622" y="489"/>
                    <a:pt x="3637" y="543"/>
                    <a:pt x="3658" y="589"/>
                  </a:cubicBezTo>
                  <a:cubicBezTo>
                    <a:pt x="3679" y="635"/>
                    <a:pt x="3696" y="668"/>
                    <a:pt x="3721" y="701"/>
                  </a:cubicBezTo>
                  <a:cubicBezTo>
                    <a:pt x="3746" y="734"/>
                    <a:pt x="3771" y="766"/>
                    <a:pt x="3809" y="789"/>
                  </a:cubicBezTo>
                  <a:cubicBezTo>
                    <a:pt x="3847" y="812"/>
                    <a:pt x="3918" y="829"/>
                    <a:pt x="3946" y="839"/>
                  </a:cubicBezTo>
                </a:path>
              </a:pathLst>
            </a:custGeom>
            <a:noFill/>
            <a:ln w="38160">
              <a:solidFill>
                <a:srgbClr val="0775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1676160" y="5268960"/>
              <a:ext cx="6019920" cy="1131840"/>
            </a:xfrm>
            <a:custGeom>
              <a:avLst/>
              <a:gdLst>
                <a:gd name="textAreaLeft" fmla="*/ 0 w 6019920"/>
                <a:gd name="textAreaRight" fmla="*/ 6020280 w 6019920"/>
                <a:gd name="textAreaTop" fmla="*/ 0 h 1131840"/>
                <a:gd name="textAreaBottom" fmla="*/ 1132200 h 1131840"/>
              </a:gdLst>
              <a:ahLst/>
              <a:rect l="textAreaLeft" t="textAreaTop" r="textAreaRight" b="textAreaBottom"/>
              <a:pathLst>
                <a:path w="3792" h="713">
                  <a:moveTo>
                    <a:pt x="0" y="713"/>
                  </a:moveTo>
                  <a:cubicBezTo>
                    <a:pt x="124" y="693"/>
                    <a:pt x="248" y="673"/>
                    <a:pt x="336" y="617"/>
                  </a:cubicBezTo>
                  <a:cubicBezTo>
                    <a:pt x="424" y="561"/>
                    <a:pt x="472" y="441"/>
                    <a:pt x="528" y="377"/>
                  </a:cubicBezTo>
                  <a:cubicBezTo>
                    <a:pt x="584" y="313"/>
                    <a:pt x="629" y="264"/>
                    <a:pt x="672" y="233"/>
                  </a:cubicBezTo>
                  <a:cubicBezTo>
                    <a:pt x="715" y="202"/>
                    <a:pt x="747" y="193"/>
                    <a:pt x="787" y="193"/>
                  </a:cubicBezTo>
                  <a:cubicBezTo>
                    <a:pt x="827" y="193"/>
                    <a:pt x="875" y="202"/>
                    <a:pt x="912" y="233"/>
                  </a:cubicBezTo>
                  <a:cubicBezTo>
                    <a:pt x="949" y="264"/>
                    <a:pt x="977" y="331"/>
                    <a:pt x="1008" y="377"/>
                  </a:cubicBezTo>
                  <a:cubicBezTo>
                    <a:pt x="1039" y="423"/>
                    <a:pt x="1060" y="474"/>
                    <a:pt x="1100" y="506"/>
                  </a:cubicBezTo>
                  <a:cubicBezTo>
                    <a:pt x="1140" y="538"/>
                    <a:pt x="1196" y="556"/>
                    <a:pt x="1248" y="569"/>
                  </a:cubicBezTo>
                  <a:cubicBezTo>
                    <a:pt x="1300" y="582"/>
                    <a:pt x="1365" y="590"/>
                    <a:pt x="1413" y="582"/>
                  </a:cubicBezTo>
                  <a:cubicBezTo>
                    <a:pt x="1461" y="574"/>
                    <a:pt x="1500" y="555"/>
                    <a:pt x="1536" y="521"/>
                  </a:cubicBezTo>
                  <a:cubicBezTo>
                    <a:pt x="1572" y="487"/>
                    <a:pt x="1584" y="441"/>
                    <a:pt x="1632" y="377"/>
                  </a:cubicBezTo>
                  <a:cubicBezTo>
                    <a:pt x="1680" y="313"/>
                    <a:pt x="1773" y="197"/>
                    <a:pt x="1824" y="137"/>
                  </a:cubicBezTo>
                  <a:cubicBezTo>
                    <a:pt x="1875" y="77"/>
                    <a:pt x="1893" y="36"/>
                    <a:pt x="1939" y="18"/>
                  </a:cubicBezTo>
                  <a:cubicBezTo>
                    <a:pt x="1985" y="0"/>
                    <a:pt x="2057" y="11"/>
                    <a:pt x="2102" y="31"/>
                  </a:cubicBezTo>
                  <a:cubicBezTo>
                    <a:pt x="2147" y="51"/>
                    <a:pt x="2174" y="87"/>
                    <a:pt x="2208" y="137"/>
                  </a:cubicBezTo>
                  <a:cubicBezTo>
                    <a:pt x="2242" y="187"/>
                    <a:pt x="2276" y="276"/>
                    <a:pt x="2304" y="329"/>
                  </a:cubicBezTo>
                  <a:cubicBezTo>
                    <a:pt x="2332" y="382"/>
                    <a:pt x="2346" y="410"/>
                    <a:pt x="2377" y="456"/>
                  </a:cubicBezTo>
                  <a:cubicBezTo>
                    <a:pt x="2408" y="502"/>
                    <a:pt x="2446" y="580"/>
                    <a:pt x="2490" y="607"/>
                  </a:cubicBezTo>
                  <a:cubicBezTo>
                    <a:pt x="2534" y="634"/>
                    <a:pt x="2586" y="638"/>
                    <a:pt x="2640" y="617"/>
                  </a:cubicBezTo>
                  <a:cubicBezTo>
                    <a:pt x="2694" y="596"/>
                    <a:pt x="2753" y="529"/>
                    <a:pt x="2815" y="481"/>
                  </a:cubicBezTo>
                  <a:cubicBezTo>
                    <a:pt x="2877" y="433"/>
                    <a:pt x="2958" y="373"/>
                    <a:pt x="3016" y="331"/>
                  </a:cubicBezTo>
                  <a:cubicBezTo>
                    <a:pt x="3074" y="289"/>
                    <a:pt x="3117" y="239"/>
                    <a:pt x="3166" y="231"/>
                  </a:cubicBezTo>
                  <a:cubicBezTo>
                    <a:pt x="3215" y="223"/>
                    <a:pt x="3264" y="256"/>
                    <a:pt x="3312" y="281"/>
                  </a:cubicBezTo>
                  <a:cubicBezTo>
                    <a:pt x="3360" y="306"/>
                    <a:pt x="3401" y="337"/>
                    <a:pt x="3454" y="381"/>
                  </a:cubicBezTo>
                  <a:cubicBezTo>
                    <a:pt x="3507" y="425"/>
                    <a:pt x="3573" y="513"/>
                    <a:pt x="3629" y="544"/>
                  </a:cubicBezTo>
                  <a:cubicBezTo>
                    <a:pt x="3685" y="575"/>
                    <a:pt x="3758" y="564"/>
                    <a:pt x="3792" y="569"/>
                  </a:cubicBezTo>
                </a:path>
              </a:pathLst>
            </a:custGeom>
            <a:noFill/>
            <a:ln w="38160">
              <a:solidFill>
                <a:srgbClr val="f503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0" y="4643280"/>
            <a:ext cx="2057400" cy="1148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2"/>
          <a:stretch/>
        </p:blipFill>
        <p:spPr>
          <a:xfrm>
            <a:off x="7572240" y="5286240"/>
            <a:ext cx="12938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оворот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395280" y="1359000"/>
          <a:ext cx="8459640" cy="54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59000"/>
                    <a:ext cx="845964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4E8-B523-4456-8156-F0EEA6823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2179-F4E7-4938-9357-3A67E8EF3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Круговорот%20углерода"/>
          <p:cNvPicPr/>
          <p:nvPr/>
        </p:nvPicPr>
        <p:blipFill>
          <a:blip r:embed="rId1"/>
          <a:stretch/>
        </p:blipFill>
        <p:spPr>
          <a:xfrm>
            <a:off x="0" y="0"/>
            <a:ext cx="860436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говорот аз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3" descr="Круговорот%20азота"/>
          <p:cNvPicPr/>
          <p:nvPr/>
        </p:nvPicPr>
        <p:blipFill>
          <a:blip r:embed="rId1"/>
          <a:stretch/>
        </p:blipFill>
        <p:spPr>
          <a:xfrm>
            <a:off x="250920" y="907920"/>
            <a:ext cx="8893080" cy="583092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A912-007C-4FA5-A654-887AFD04B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говорот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8" descr="Круговорот%20фосфора"/>
          <p:cNvPicPr/>
          <p:nvPr/>
        </p:nvPicPr>
        <p:blipFill>
          <a:blip r:embed="rId1"/>
          <a:stretch/>
        </p:blipFill>
        <p:spPr>
          <a:xfrm>
            <a:off x="250920" y="1125360"/>
            <a:ext cx="8748720" cy="494532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588-D1D1-4591-8568-084C3AC8B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говорот С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0A88-D575-4CF0-BD2A-36A52AC34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4" descr="сера.jpg"/>
          <p:cNvPicPr/>
          <p:nvPr/>
        </p:nvPicPr>
        <p:blipFill>
          <a:blip r:embed="rId1"/>
          <a:stretch/>
        </p:blipFill>
        <p:spPr>
          <a:xfrm>
            <a:off x="2050920" y="1063800"/>
            <a:ext cx="511344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-12600" y="4292640"/>
            <a:ext cx="9088200" cy="23781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пуляция – это совокупность особей одного вида, способная к самовоспроизведению, более или менее изолированная в пространстве и во времени от других аналогичных совокупностей одного и того же ви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oose_family"/>
          <p:cNvPicPr/>
          <p:nvPr/>
        </p:nvPicPr>
        <p:blipFill>
          <a:blip r:embed="rId1"/>
          <a:stretch/>
        </p:blipFill>
        <p:spPr>
          <a:xfrm>
            <a:off x="1706400" y="0"/>
            <a:ext cx="57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растны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нильная группа (детск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ильная группа (старческая, не участвующая в воспроизводств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ая группа (особи, осуществляющие репродукцию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6AF3-8880-44BE-B1FC-9E409776D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5:43:44Z</dcterms:created>
  <dc:creator>dgim</dc:creator>
  <dc:description/>
  <dc:language>en-US</dc:language>
  <cp:lastModifiedBy>dgim</cp:lastModifiedBy>
  <dcterms:modified xsi:type="dcterms:W3CDTF">2011-04-01T06:54:24Z</dcterms:modified>
  <cp:revision>26</cp:revision>
  <dc:subject/>
  <dc:title>Круговороты</dc:title>
</cp:coreProperties>
</file>