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7.gif" ContentType="image/gif"/>
  <Override PartName="/ppt/media/image5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29.png" ContentType="image/png"/>
  <Override PartName="/ppt/media/image10.jpeg" ContentType="image/jpeg"/>
  <Override PartName="/ppt/media/image25.gif" ContentType="image/gif"/>
  <Override PartName="/ppt/media/image28.png" ContentType="image/png"/>
  <Override PartName="/ppt/media/image4.jpeg" ContentType="image/jpeg"/>
  <Override PartName="/ppt/media/image27.png" ContentType="image/png"/>
  <Override PartName="/ppt/media/image21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5.wmf" ContentType="image/x-wmf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3F4E-3D12-4978-905C-2078CB6540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FB11-94D0-4713-8A7B-5A02DA53C4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C9A-4C3E-4B55-80BE-0F6FF2B3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E572-1B0B-450C-886B-DDFC947D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AF2A-86A1-4AD4-9304-A0FF8166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EB1-BB91-4C34-BA39-6CE9F8DE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4A13-47B2-4B82-8797-799E7FC0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59FF-9D57-494D-B386-7C0FDFE4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CB3C-A501-4E70-B724-5FB13A5E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F699-3287-404D-8008-5609CAA3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97DD-2EBC-4DDC-9097-8E55B9A9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874C-4460-433B-9B3F-93F49B5B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DA66-9B18-49EC-A021-849BFCFC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76B4-E744-4311-9B5F-B773E52D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0256-6C01-4D17-A27D-BB57D023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738E-0D06-4997-9F25-304943C3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A4FE-0DEE-406C-846E-E4C2AE5D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1CC9-F89F-43A0-9AB7-67EFDD10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69B7-423D-40C3-9FDC-63C8EAD0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A38-341A-4766-95FA-B8DC731E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67B-69DA-40D1-9B48-F057D60E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284-B231-4289-A44F-BEC89E96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E19-8B0D-4DF6-AE21-9345D18B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961D-7A8B-431F-8F19-33AFA682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247-AD2F-4332-AEC1-59E695BC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3DA-E042-4B81-81EB-49078E74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1536-49C1-4ABA-915E-129F84A9C5B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EB2A-35DD-4C6C-B26D-1EB1C0DA0E7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335268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0" y="4592520"/>
            <a:ext cx="3429000" cy="2265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4"/>
          <a:stretch/>
        </p:blipFill>
        <p:spPr>
          <a:xfrm>
            <a:off x="6705720" y="0"/>
            <a:ext cx="2438280" cy="1951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5"/>
          <a:stretch/>
        </p:blipFill>
        <p:spPr>
          <a:xfrm>
            <a:off x="6248520" y="4540320"/>
            <a:ext cx="289548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Organization Chart 7"/>
          <p:cNvGrpSpPr/>
          <p:nvPr/>
        </p:nvGrpSpPr>
        <p:grpSpPr>
          <a:xfrm>
            <a:off x="431640" y="620640"/>
            <a:ext cx="8712000" cy="5976000"/>
            <a:chOff x="431640" y="620640"/>
            <a:chExt cx="8712000" cy="5976000"/>
          </a:xfrm>
        </p:grpSpPr>
        <p:cxnSp>
          <p:nvCxnSpPr>
            <p:cNvPr id="114" name="_s2052"/>
            <p:cNvCxnSpPr>
              <a:stCxn id="115" idx="0"/>
              <a:endCxn id="116" idx="2"/>
            </p:cNvCxnSpPr>
            <p:nvPr/>
          </p:nvCxnSpPr>
          <p:spPr>
            <a:xfrm flipV="1" rot="16200000">
              <a:off x="7103880" y="3831480"/>
              <a:ext cx="747720" cy="1794240"/>
            </a:xfrm>
            <a:prstGeom prst="bentConnector3">
              <a:avLst>
                <a:gd name="adj1" fmla="val 152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2053"/>
            <p:cNvCxnSpPr>
              <a:stCxn id="118" idx="0"/>
              <a:endCxn id="116" idx="2"/>
            </p:cNvCxnSpPr>
            <p:nvPr/>
          </p:nvCxnSpPr>
          <p:spPr>
            <a:xfrm flipV="1">
              <a:off x="6580800" y="4354920"/>
              <a:ext cx="2520" cy="747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054"/>
            <p:cNvCxnSpPr>
              <a:stCxn id="120" idx="0"/>
              <a:endCxn id="116" idx="2"/>
            </p:cNvCxnSpPr>
            <p:nvPr/>
          </p:nvCxnSpPr>
          <p:spPr>
            <a:xfrm flipH="1" flipV="1" rot="5400000">
              <a:off x="5310720" y="3831840"/>
              <a:ext cx="747720" cy="1794240"/>
            </a:xfrm>
            <a:prstGeom prst="bentConnector3">
              <a:avLst>
                <a:gd name="adj1" fmla="val 152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2055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2171520" y="4280040"/>
              <a:ext cx="747720" cy="897120"/>
            </a:xfrm>
            <a:prstGeom prst="bentConnector3">
              <a:avLst>
                <a:gd name="adj1" fmla="val 152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056"/>
            <p:cNvCxnSpPr>
              <a:stCxn id="125" idx="0"/>
              <a:endCxn id="123" idx="2"/>
            </p:cNvCxnSpPr>
            <p:nvPr/>
          </p:nvCxnSpPr>
          <p:spPr>
            <a:xfrm flipH="1" flipV="1" rot="5400000">
              <a:off x="1274760" y="4280040"/>
              <a:ext cx="747720" cy="897480"/>
            </a:xfrm>
            <a:prstGeom prst="bentConnector3">
              <a:avLst>
                <a:gd name="adj1" fmla="val 152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057"/>
            <p:cNvCxnSpPr>
              <a:stCxn id="116" idx="0"/>
              <a:endCxn id="127" idx="2"/>
            </p:cNvCxnSpPr>
            <p:nvPr/>
          </p:nvCxnSpPr>
          <p:spPr>
            <a:xfrm flipV="1" rot="16200000">
              <a:off x="5086080" y="1366560"/>
              <a:ext cx="747720" cy="2242440"/>
            </a:xfrm>
            <a:prstGeom prst="bentConnector3">
              <a:avLst>
                <a:gd name="adj1" fmla="val 152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058"/>
            <p:cNvCxnSpPr>
              <a:stCxn id="123" idx="0"/>
              <a:endCxn id="127" idx="2"/>
            </p:cNvCxnSpPr>
            <p:nvPr/>
          </p:nvCxnSpPr>
          <p:spPr>
            <a:xfrm flipH="1" flipV="1" rot="5400000">
              <a:off x="2844360" y="1366560"/>
              <a:ext cx="747720" cy="2242440"/>
            </a:xfrm>
            <a:prstGeom prst="bentConnector3">
              <a:avLst>
                <a:gd name="adj1" fmla="val 152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7" name="_s2059"/>
            <p:cNvSpPr/>
            <p:nvPr/>
          </p:nvSpPr>
          <p:spPr>
            <a:xfrm>
              <a:off x="3570480" y="620640"/>
              <a:ext cx="1537200" cy="1494000"/>
            </a:xfrm>
            <a:prstGeom prst="roundRect">
              <a:avLst>
                <a:gd name="adj" fmla="val 16667"/>
              </a:avLst>
            </a:prstGeom>
            <a:solidFill>
              <a:srgbClr val="adffd6">
                <a:alpha val="8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кружающая сре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60"/>
            <p:cNvSpPr/>
            <p:nvPr/>
          </p:nvSpPr>
          <p:spPr>
            <a:xfrm>
              <a:off x="1328400" y="2861640"/>
              <a:ext cx="1537200" cy="1494000"/>
            </a:xfrm>
            <a:prstGeom prst="roundRect">
              <a:avLst>
                <a:gd name="adj" fmla="val 16667"/>
              </a:avLst>
            </a:prstGeom>
            <a:solidFill>
              <a:srgbClr val="adffd6">
                <a:alpha val="8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ЕСТЕСТВЕН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061"/>
            <p:cNvSpPr/>
            <p:nvPr/>
          </p:nvSpPr>
          <p:spPr>
            <a:xfrm>
              <a:off x="5812560" y="2861640"/>
              <a:ext cx="1537200" cy="1494000"/>
            </a:xfrm>
            <a:prstGeom prst="roundRect">
              <a:avLst>
                <a:gd name="adj" fmla="val 16667"/>
              </a:avLst>
            </a:prstGeom>
            <a:solidFill>
              <a:srgbClr val="adffd6">
                <a:alpha val="8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ИСКУССТВЕН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062"/>
            <p:cNvSpPr/>
            <p:nvPr/>
          </p:nvSpPr>
          <p:spPr>
            <a:xfrm>
              <a:off x="431640" y="5102640"/>
              <a:ext cx="1537200" cy="1494000"/>
            </a:xfrm>
            <a:prstGeom prst="roundRect">
              <a:avLst>
                <a:gd name="adj" fmla="val 16667"/>
              </a:avLst>
            </a:prstGeom>
            <a:solidFill>
              <a:srgbClr val="adffd6">
                <a:alpha val="8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геосфе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063"/>
            <p:cNvSpPr/>
            <p:nvPr/>
          </p:nvSpPr>
          <p:spPr>
            <a:xfrm>
              <a:off x="2225160" y="5102640"/>
              <a:ext cx="1537200" cy="1494000"/>
            </a:xfrm>
            <a:prstGeom prst="roundRect">
              <a:avLst>
                <a:gd name="adj" fmla="val 16667"/>
              </a:avLst>
            </a:prstGeom>
            <a:solidFill>
              <a:srgbClr val="adffd6">
                <a:alpha val="8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биосфе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064"/>
            <p:cNvSpPr/>
            <p:nvPr/>
          </p:nvSpPr>
          <p:spPr>
            <a:xfrm>
              <a:off x="4019040" y="5102640"/>
              <a:ext cx="1537200" cy="1494000"/>
            </a:xfrm>
            <a:prstGeom prst="roundRect">
              <a:avLst>
                <a:gd name="adj" fmla="val 16667"/>
              </a:avLst>
            </a:prstGeom>
            <a:solidFill>
              <a:srgbClr val="adffd6">
                <a:alpha val="8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едме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материально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и духов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065"/>
            <p:cNvSpPr/>
            <p:nvPr/>
          </p:nvSpPr>
          <p:spPr>
            <a:xfrm>
              <a:off x="5812560" y="5102640"/>
              <a:ext cx="1537200" cy="1494000"/>
            </a:xfrm>
            <a:prstGeom prst="roundRect">
              <a:avLst>
                <a:gd name="adj" fmla="val 16667"/>
              </a:avLst>
            </a:prstGeom>
            <a:solidFill>
              <a:srgbClr val="adffd6">
                <a:alpha val="8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еобразован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ландшаф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066"/>
            <p:cNvSpPr/>
            <p:nvPr/>
          </p:nvSpPr>
          <p:spPr>
            <a:xfrm>
              <a:off x="7606440" y="5102640"/>
              <a:ext cx="1537200" cy="1494000"/>
            </a:xfrm>
            <a:prstGeom prst="roundRect">
              <a:avLst>
                <a:gd name="adj" fmla="val 16667"/>
              </a:avLst>
            </a:prstGeom>
            <a:solidFill>
              <a:srgbClr val="adffd6">
                <a:alpha val="8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ыведенн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аст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и живот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пределение понятия техносфер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ехносфер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совокупность элементов среды в пределах географической оболочки Земли, созданных из природных веществ трудом и сознательной волей человека и не имеющих аналогов в девственной природ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57200" y="274680"/>
          <a:ext cx="8075520" cy="4734000"/>
        </p:xfrm>
        <a:graphic>
          <a:graphicData uri="http://schemas.openxmlformats.org/drawingml/2006/table">
            <a:tbl>
              <a:tblPr/>
              <a:tblGrid>
                <a:gridCol w="4186080"/>
                <a:gridCol w="3889440"/>
              </a:tblGrid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сфер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сфер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мосфер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сфер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осфер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мосфер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сфер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осфер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волюция к 19 век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волюция после 19 ве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масс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масс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Picture 25" descr="j0205462"/>
          <p:cNvPicPr/>
          <p:nvPr/>
        </p:nvPicPr>
        <p:blipFill>
          <a:blip r:embed="rId1"/>
          <a:stretch/>
        </p:blipFill>
        <p:spPr>
          <a:xfrm>
            <a:off x="7164360" y="260280"/>
            <a:ext cx="1224000" cy="1217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8" descr="j0332364"/>
          <p:cNvPicPr/>
          <p:nvPr/>
        </p:nvPicPr>
        <p:blipFill>
          <a:blip r:embed="rId2"/>
          <a:stretch/>
        </p:blipFill>
        <p:spPr>
          <a:xfrm>
            <a:off x="3059280" y="260280"/>
            <a:ext cx="139860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" descr=""/>
          <p:cNvPicPr/>
          <p:nvPr/>
        </p:nvPicPr>
        <p:blipFill>
          <a:blip r:embed="rId2"/>
          <a:stretch/>
        </p:blipFill>
        <p:spPr>
          <a:xfrm>
            <a:off x="203040" y="-22320"/>
            <a:ext cx="7215480" cy="525168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3"/>
          <p:cNvSpPr/>
          <p:nvPr/>
        </p:nvSpPr>
        <p:spPr>
          <a:xfrm>
            <a:off x="468360" y="580536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устройства, добывающие полезные ископае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одержимое 3" descr="Air_.pollution_1.jpg"/>
          <p:cNvPicPr/>
          <p:nvPr/>
        </p:nvPicPr>
        <p:blipFill>
          <a:blip r:embed="rId1"/>
          <a:stretch/>
        </p:blipFill>
        <p:spPr>
          <a:xfrm>
            <a:off x="1000080" y="824040"/>
            <a:ext cx="7143840" cy="476244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2"/>
          <p:cNvSpPr/>
          <p:nvPr/>
        </p:nvSpPr>
        <p:spPr>
          <a:xfrm>
            <a:off x="179280" y="5877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ехнический блок по переработке полученного сыр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3. </a:t>
            </a:r>
            <a:r>
              <a:rPr b="0" lang="ru-RU" sz="4400" spc="-1" strike="noStrike">
                <a:solidFill>
                  <a:srgbClr val="006633"/>
                </a:solidFill>
                <a:latin typeface="Garamond"/>
              </a:rPr>
              <a:t>Техника, средства потребления.</a:t>
            </a: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695484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4. </a:t>
            </a: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Технические системы по передаче и хранению информации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Содержимое 4" descr="technology_029.jpg"/>
          <p:cNvPicPr/>
          <p:nvPr/>
        </p:nvPicPr>
        <p:blipFill>
          <a:blip r:embed="rId1"/>
          <a:stretch/>
        </p:blipFill>
        <p:spPr>
          <a:xfrm>
            <a:off x="1739880" y="1600200"/>
            <a:ext cx="5664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5. </a:t>
            </a: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Автономные и многофункциональные системы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5" name="Содержимое 4" descr="technology_021.jpg"/>
          <p:cNvPicPr/>
          <p:nvPr/>
        </p:nvPicPr>
        <p:blipFill>
          <a:blip r:embed="rId1"/>
          <a:stretch/>
        </p:blipFill>
        <p:spPr>
          <a:xfrm>
            <a:off x="1739880" y="1600200"/>
            <a:ext cx="5664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6. </a:t>
            </a:r>
            <a:r>
              <a:rPr b="0" lang="ru-RU" sz="4400" spc="-1" strike="noStrike">
                <a:solidFill>
                  <a:srgbClr val="006633"/>
                </a:solidFill>
                <a:latin typeface="Garamond"/>
              </a:rPr>
              <a:t>Техносистемы по переработке и утилизации отходов.</a:t>
            </a: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Содержимое 4" descr="i.jpg"/>
          <p:cNvPicPr/>
          <p:nvPr/>
        </p:nvPicPr>
        <p:blipFill>
          <a:blip r:embed="rId1"/>
          <a:stretch/>
        </p:blipFill>
        <p:spPr>
          <a:xfrm>
            <a:off x="214200" y="1643040"/>
            <a:ext cx="4286520" cy="32148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5" descr="111i.jpg"/>
          <p:cNvPicPr/>
          <p:nvPr/>
        </p:nvPicPr>
        <p:blipFill>
          <a:blip r:embed="rId2"/>
          <a:stretch/>
        </p:blipFill>
        <p:spPr>
          <a:xfrm>
            <a:off x="4456080" y="3357720"/>
            <a:ext cx="4687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труктура техновеще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вичная (добыча природных ресурсов)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торичная (обработка добытой продукци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ретичная (обслуживание производства: наука, управление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40054"/>
                </a:solidFill>
                <a:latin typeface="Tahoma"/>
                <a:ea typeface="Lucida Sans Unicode"/>
              </a:rPr>
              <a:t>В пределах биосферы сформировались 4 среды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9144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SzPct val="129555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Вода (мертвая сре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SzPct val="129555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Воздух (мертвая сре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SzPct val="129555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Почва (биокосная сре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SzPct val="129555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Живой организм (живая сре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607df6"/>
              </a:buClr>
              <a:buSzPct val="126000"/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Появление человека как биологического вида открывает социальный этап эволюции биосф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5"/>
          <a:stretch/>
        </p:blipFill>
        <p:spPr>
          <a:xfrm>
            <a:off x="7812000" y="5229360"/>
            <a:ext cx="12384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611280" y="260280"/>
            <a:ext cx="777240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40054"/>
                </a:solidFill>
                <a:latin typeface="Tahoma"/>
                <a:ea typeface="Lucida Sans Unicode"/>
              </a:rPr>
              <a:t>Ноосф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0" y="1125360"/>
            <a:ext cx="914400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29555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n-GB" sz="2800" spc="-1" strike="noStrike">
                <a:solidFill>
                  <a:srgbClr val="2b2f5f"/>
                </a:solidFill>
                <a:latin typeface="Tahoma"/>
                <a:ea typeface="Lucida Sans Unicode"/>
              </a:rPr>
              <a:t>Сегодняшний период развития биосферы – техносфера. Этот этап ставит задачи срочного принятия мер по охране окружающе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29555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n-GB" sz="2800" spc="-1" strike="noStrike">
                <a:solidFill>
                  <a:srgbClr val="2b2f5f"/>
                </a:solidFill>
                <a:latin typeface="Tahoma"/>
                <a:ea typeface="Lucida Sans Unicode"/>
              </a:rPr>
              <a:t>Следующий этап эволюции биосферы - </a:t>
            </a:r>
            <a:r>
              <a:rPr b="1" lang="en-GB" sz="2800" spc="-1" strike="noStrike">
                <a:solidFill>
                  <a:srgbClr val="2b2f5f"/>
                </a:solidFill>
                <a:latin typeface="Tahoma"/>
                <a:ea typeface="Lucida Sans Unicode"/>
              </a:rPr>
              <a:t>ноосфера</a:t>
            </a:r>
            <a:r>
              <a:rPr b="0" lang="en-GB" sz="2800" spc="-1" strike="noStrike">
                <a:solidFill>
                  <a:srgbClr val="2b2f5f"/>
                </a:solidFill>
                <a:latin typeface="Tahoma"/>
                <a:ea typeface="Lucida Sans Unicode"/>
              </a:rPr>
              <a:t>, сфера разума. Это сфера взаимодействия природы и общества, в пределах которой разумная деятельность человека становится главным, определяющим фактором развития. Природные процессы обмена веществ и энергии будут контролироваться обществом и преобразовываться соответственно познанным и освоенным законам строения и развития биосф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3"/>
          <a:stretch/>
        </p:blipFill>
        <p:spPr>
          <a:xfrm>
            <a:off x="8072280" y="142920"/>
            <a:ext cx="839880" cy="1214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4"/>
          <a:stretch/>
        </p:blipFill>
        <p:spPr>
          <a:xfrm>
            <a:off x="8001000" y="5715000"/>
            <a:ext cx="82224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Ноосфер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осфера - качественно иная, высшая стадия биосферы, связанная с коренным преобразованием не только природы, но и самого человека, но это не просто    сфера приложения знаний человека при высоком уровне техни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Темпы увеличения потребления сырья цивилизацией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2"/>
          <a:srcRect l="5979" t="10436" r="10435" b="18000"/>
          <a:stretch/>
        </p:blipFill>
        <p:spPr>
          <a:xfrm>
            <a:off x="0" y="1557360"/>
            <a:ext cx="917244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33"/>
                </a:solidFill>
                <a:latin typeface="Times New Roman"/>
              </a:rPr>
              <a:t>условия, необходимых для становления и существования ноосферы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селение человеком всей планет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зкое преобразование средств связи и обмена между стран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иление связей, в том числе политических, между всеми странами Земл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чало преобладания геологической роли человека над другими геологическими процессами, протекающими в биосфер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ширение границ биосферы и выход в космос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крытие новых источников энерг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енство людей всех рас и религ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8692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Times New Roman"/>
              </a:rPr>
              <a:t>условия, необходимых для становления и существования ноосферы. 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еличение роли народных масс в решении вопросов внешней и внутренней политик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вобода научной мысли и научного искания от давления религиозных, философских и политических построений и создание в государственном строе условий, благоприятных для свободной научной мысл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думанная система народного образования и подъем благосостояния трудящихся. Создание реальной возможности не допустить недоедания и голода, нищеты и чрезвычайно ослабить болезн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умное преобразование первичной природы Земли с целью сделать ее способной удовлетворить все материальные, эстетические и духовные потребности численно возрастающего населе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ключение войн из жизни общест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войства ноосфе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осфера представляет собой новый уровень развития природы, который  связан энергетически со всеми другими земными оболочками, и прежде всего с биосферой, и соответствует качественно иному фундаментальному относительному природному равновеси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е структурные природные уровни возникают посредством взры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войства ноосфе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ирование планетарного мышления, в котором так нуждается современное человечество, возможно только на основе ноосфер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ъединение в пределах ноосферы всего человечества,  так как подобное объединение характеризует единство ноосферной цивилизации  и каждого ее член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29680" cy="15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Развития биосферы до 2100 года Д. Форрестера 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9" name="Содержимое 3" descr="11_1"/>
          <p:cNvPicPr/>
          <p:nvPr/>
        </p:nvPicPr>
        <p:blipFill>
          <a:blip r:embed="rId1"/>
          <a:stretch/>
        </p:blipFill>
        <p:spPr>
          <a:xfrm>
            <a:off x="285840" y="10717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Модель глобального развития Д.Медоуза 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1" name="Содержимое 3" descr="11_2"/>
          <p:cNvPicPr/>
          <p:nvPr/>
        </p:nvPicPr>
        <p:blipFill>
          <a:blip r:embed="rId1"/>
          <a:stretch/>
        </p:blipFill>
        <p:spPr>
          <a:xfrm>
            <a:off x="428760" y="857160"/>
            <a:ext cx="82864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экология и здоровье челове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лерг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учевая болезн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оксические заболе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енетические изменения в организ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 много раз увеличилось число заболеваний верхних дыхательных пут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ривая сердечно-сосудистых, нервно-психических, онкологических заболеваний сделала резкий скачок вверх и т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группы факторов эволюции биосфе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витием нашей планеты как космического тела и протекающих в ее недрах химических преобразова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ологической эволюции живых организм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витием человеческого общ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Окружающая среда»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6"/>
          <p:cNvGraphicFramePr/>
          <p:nvPr/>
        </p:nvGraphicFramePr>
        <p:xfrm>
          <a:off x="395280" y="836640"/>
          <a:ext cx="8497800" cy="56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836640"/>
                    <a:ext cx="849780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7" descr=""/>
          <p:cNvPicPr/>
          <p:nvPr/>
        </p:nvPicPr>
        <p:blipFill>
          <a:blip r:embed="rId1"/>
          <a:stretch/>
        </p:blipFill>
        <p:spPr>
          <a:xfrm>
            <a:off x="250920" y="63360"/>
            <a:ext cx="9582120" cy="63183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"/>
          <p:cNvPicPr/>
          <p:nvPr/>
        </p:nvPicPr>
        <p:blipFill>
          <a:blip r:embed="rId2"/>
          <a:stretch/>
        </p:blipFill>
        <p:spPr>
          <a:xfrm>
            <a:off x="0" y="55440"/>
            <a:ext cx="8993160" cy="674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4 C 0.081 -0.049 0.102 -0.054 0.124 -0.054 C 0.149 -0.054 0.169 -0.049 0.183 -0.04 L 0.25 0 E">
                                      <p:cBhvr>
                                        <p:cTn id="1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-396720" y="189000"/>
            <a:ext cx="968040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891640" cy="71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58:00Z</dcterms:created>
  <dc:creator>dgim</dc:creator>
  <dc:description/>
  <dc:language>en-US</dc:language>
  <cp:lastModifiedBy>vusovich ov</cp:lastModifiedBy>
  <dcterms:modified xsi:type="dcterms:W3CDTF">2011-03-11T08:45:57Z</dcterms:modified>
  <cp:revision>34</cp:revision>
  <dc:subject/>
  <dc:title>Определение понятия техносферы</dc:title>
</cp:coreProperties>
</file>