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6E2C-A627-4CBE-BB2F-D808EEDF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931C-CF83-4765-AD8D-D2603377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D92E-5E6C-4410-97B9-5F94ECF9F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2DA3-42A0-43A2-9CFB-96DB955BA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9E5E-26A5-4939-98D8-ED3C96B3F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C551-7528-4A04-A9B9-B8C3C28E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B9C8-D7C5-442E-BE83-CB1D58E9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6635-2EBF-427D-9E30-D212B7E9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32A4-75B6-45E6-B116-38E81DFE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034A-D6D2-4558-8A09-D29FC0AA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4F91-563A-4C87-BD69-F7C42F4B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2BD6-7A1A-4F2B-B2D8-4FD475DE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4BB1-9670-45A4-B7EB-C7FD92E3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E2F6-A3C3-4FF2-A308-00EECD34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0D77-8FAD-4C19-B3D4-45A21DC2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A401-8D0C-452A-912C-A1ACCAFB6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CD92-E0DF-4C57-943B-3EBE09759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3FFF-AD8D-4239-AAFE-4BCB65C3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A3EB-212D-40DC-9000-48D75766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69B1-93DF-4540-9178-23E68248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2B31-2EEB-4DD9-9049-9568B827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A15E-29DB-4804-9C82-F4A918C1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EEFC-E188-4016-B6FA-523815E4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341A-CAB1-4A4E-8D1B-F8B01518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624E-C2C3-47AC-B323-B724661FEA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C95E-7B36-40E6-9548-FCFD8E0C7BC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Человечество и биосфера. Учение Вернадского о биосфере и концепция ноосферы.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троение и границы биосфе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ак место обетания организмов: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53" name="Organization Chart 6"/>
          <p:cNvGrpSpPr/>
          <p:nvPr/>
        </p:nvGrpSpPr>
        <p:grpSpPr>
          <a:xfrm>
            <a:off x="431640" y="1589040"/>
            <a:ext cx="8208000" cy="4462560"/>
            <a:chOff x="431640" y="1589040"/>
            <a:chExt cx="8208000" cy="4462560"/>
          </a:xfrm>
        </p:grpSpPr>
        <p:cxnSp>
          <p:nvCxnSpPr>
            <p:cNvPr id="154" name="_s3076"/>
            <p:cNvCxnSpPr>
              <a:stCxn id="155" idx="0"/>
              <a:endCxn id="156" idx="2"/>
            </p:cNvCxnSpPr>
            <p:nvPr/>
          </p:nvCxnSpPr>
          <p:spPr>
            <a:xfrm flipV="1" rot="16200000">
              <a:off x="5194080" y="2714760"/>
              <a:ext cx="893160" cy="22100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7" name="_s3077"/>
            <p:cNvCxnSpPr>
              <a:stCxn id="158" idx="0"/>
              <a:endCxn id="156" idx="2"/>
            </p:cNvCxnSpPr>
            <p:nvPr/>
          </p:nvCxnSpPr>
          <p:spPr>
            <a:xfrm flipH="1" flipV="1" rot="5400000">
              <a:off x="2984400" y="2714400"/>
              <a:ext cx="893160" cy="2210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56" name="_s3078"/>
            <p:cNvSpPr/>
            <p:nvPr/>
          </p:nvSpPr>
          <p:spPr>
            <a:xfrm>
              <a:off x="2642040" y="158904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300" spc="-1" strike="noStrike">
                  <a:solidFill>
                    <a:srgbClr val="ffffff"/>
                  </a:solidFill>
                  <a:latin typeface="Times New Roman"/>
                </a:rPr>
                <a:t>Аэробиосфера</a:t>
              </a:r>
              <a:endParaRPr b="0" lang="en-US" sz="3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_s3079"/>
            <p:cNvSpPr/>
            <p:nvPr/>
          </p:nvSpPr>
          <p:spPr>
            <a:xfrm>
              <a:off x="431640" y="426672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300" spc="-1" strike="noStrike">
                  <a:solidFill>
                    <a:srgbClr val="ffffff"/>
                  </a:solidFill>
                  <a:latin typeface="Times New Roman"/>
                </a:rPr>
                <a:t>Тропобиосфера</a:t>
              </a:r>
              <a:endParaRPr b="0" lang="en-US" sz="3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300" spc="-1" strike="noStrike">
                  <a:solidFill>
                    <a:srgbClr val="ffffff"/>
                  </a:solidFill>
                  <a:latin typeface="Times New Roman"/>
                </a:rPr>
                <a:t>От вершины деревьев</a:t>
              </a:r>
              <a:endParaRPr b="0" lang="en-US" sz="3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300" spc="-1" strike="noStrike">
                  <a:solidFill>
                    <a:srgbClr val="ffffff"/>
                  </a:solidFill>
                  <a:latin typeface="Times New Roman"/>
                </a:rPr>
                <a:t>до облаков</a:t>
              </a:r>
              <a:endParaRPr b="0" lang="en-US" sz="3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_s3080"/>
            <p:cNvSpPr/>
            <p:nvPr/>
          </p:nvSpPr>
          <p:spPr>
            <a:xfrm>
              <a:off x="4851360" y="426672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300" spc="-1" strike="noStrike">
                  <a:solidFill>
                    <a:srgbClr val="ffffff"/>
                  </a:solidFill>
                  <a:latin typeface="Times New Roman"/>
                </a:rPr>
                <a:t>Стратобиосфера</a:t>
              </a:r>
              <a:endParaRPr b="0" lang="en-US" sz="3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300" spc="-1" strike="noStrike">
                  <a:solidFill>
                    <a:srgbClr val="ffffff"/>
                  </a:solidFill>
                  <a:latin typeface="Times New Roman"/>
                </a:rPr>
                <a:t>Или альтобиосфера </a:t>
              </a:r>
              <a:endParaRPr b="0" lang="en-US" sz="3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0" y="476280"/>
          <a:ext cx="9144000" cy="6410160"/>
        </p:xfrm>
        <a:graphic>
          <a:graphicData uri="http://schemas.openxmlformats.org/drawingml/2006/table">
            <a:tbl>
              <a:tblPr/>
              <a:tblGrid>
                <a:gridCol w="871560"/>
                <a:gridCol w="8272440"/>
              </a:tblGrid>
              <a:tr h="70380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Живое вещество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азованное совокупностью организм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Биогенное вещество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которое создается в процессе жизнедеятельности организмов (газы атмосферы, каменный уголь, нефть, торф, известняки и др.)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Косное вещество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которое формируется без участия живых организм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Биокосное вещество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представляющее собой совместный результат жизнедеятельности организмов и небиологических процессов (например, почвы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Рассеянные атомы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 отдельные атомы элементов, в природе встречаются в рассеянном состоянии магний, кобальт и др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Радиоактивное вещество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 уран, торий, радий и тд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Вещество космического происхожд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rcRect l="24747" t="14398" r="17998" b="7199"/>
          <a:stretch/>
        </p:blipFill>
        <p:spPr>
          <a:xfrm>
            <a:off x="642960" y="0"/>
            <a:ext cx="801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214200" y="357120"/>
            <a:ext cx="8786880" cy="5714640"/>
            <a:chOff x="214200" y="357120"/>
            <a:chExt cx="8786880" cy="5714640"/>
          </a:xfrm>
        </p:grpSpPr>
        <p:sp>
          <p:nvSpPr>
            <p:cNvPr id="162" name="Rectangle 3"/>
            <p:cNvSpPr/>
            <p:nvPr/>
          </p:nvSpPr>
          <p:spPr>
            <a:xfrm>
              <a:off x="214200" y="357120"/>
              <a:ext cx="8786880" cy="5714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3" name="Group 4"/>
            <p:cNvGrpSpPr/>
            <p:nvPr/>
          </p:nvGrpSpPr>
          <p:grpSpPr>
            <a:xfrm>
              <a:off x="1078200" y="1657800"/>
              <a:ext cx="5762160" cy="4257720"/>
              <a:chOff x="1078200" y="1657800"/>
              <a:chExt cx="5762160" cy="4257720"/>
            </a:xfrm>
          </p:grpSpPr>
          <p:sp>
            <p:nvSpPr>
              <p:cNvPr id="164" name="Rectangle 5"/>
              <p:cNvSpPr/>
              <p:nvPr/>
            </p:nvSpPr>
            <p:spPr>
              <a:xfrm>
                <a:off x="1654200" y="1657800"/>
                <a:ext cx="1441080" cy="710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Rectangle 6"/>
              <p:cNvSpPr/>
              <p:nvPr/>
            </p:nvSpPr>
            <p:spPr>
              <a:xfrm>
                <a:off x="1654200" y="3313080"/>
                <a:ext cx="1441080" cy="947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Rectangle 7"/>
              <p:cNvSpPr/>
              <p:nvPr/>
            </p:nvSpPr>
            <p:spPr>
              <a:xfrm>
                <a:off x="1654200" y="5204880"/>
                <a:ext cx="1441080" cy="710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Rectangle 8"/>
              <p:cNvSpPr/>
              <p:nvPr/>
            </p:nvSpPr>
            <p:spPr>
              <a:xfrm>
                <a:off x="4534920" y="3313080"/>
                <a:ext cx="2305440" cy="947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Line 9"/>
              <p:cNvSpPr/>
              <p:nvPr/>
            </p:nvSpPr>
            <p:spPr>
              <a:xfrm flipV="1">
                <a:off x="2374200" y="4258440"/>
                <a:ext cx="720" cy="94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triangle" w="sm"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Line 10"/>
              <p:cNvSpPr/>
              <p:nvPr/>
            </p:nvSpPr>
            <p:spPr>
              <a:xfrm flipV="1">
                <a:off x="2374200" y="2366640"/>
                <a:ext cx="720" cy="94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triangle" w="sm"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Line 11"/>
              <p:cNvSpPr/>
              <p:nvPr/>
            </p:nvSpPr>
            <p:spPr>
              <a:xfrm>
                <a:off x="3094560" y="3785760"/>
                <a:ext cx="1441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triangle" w="sm"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Line 12"/>
              <p:cNvSpPr/>
              <p:nvPr/>
            </p:nvSpPr>
            <p:spPr>
              <a:xfrm>
                <a:off x="3094560" y="2130480"/>
                <a:ext cx="1441080" cy="118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triangle" w="sm"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Line 13"/>
              <p:cNvSpPr/>
              <p:nvPr/>
            </p:nvSpPr>
            <p:spPr>
              <a:xfrm flipV="1">
                <a:off x="3094560" y="4258800"/>
                <a:ext cx="1441080" cy="118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triangle" w="sm"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Line 14"/>
              <p:cNvSpPr/>
              <p:nvPr/>
            </p:nvSpPr>
            <p:spPr>
              <a:xfrm>
                <a:off x="1078200" y="2130480"/>
                <a:ext cx="720" cy="354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Line 15"/>
              <p:cNvSpPr/>
              <p:nvPr/>
            </p:nvSpPr>
            <p:spPr>
              <a:xfrm>
                <a:off x="1078200" y="2130480"/>
                <a:ext cx="576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Line 16"/>
              <p:cNvSpPr/>
              <p:nvPr/>
            </p:nvSpPr>
            <p:spPr>
              <a:xfrm flipH="1">
                <a:off x="1078200" y="5677560"/>
                <a:ext cx="576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Прямоугольник 18"/>
          <p:cNvSpPr/>
          <p:nvPr/>
        </p:nvSpPr>
        <p:spPr>
          <a:xfrm>
            <a:off x="1714680" y="178596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тмосфе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Прямоугольник 19"/>
          <p:cNvSpPr/>
          <p:nvPr/>
        </p:nvSpPr>
        <p:spPr>
          <a:xfrm>
            <a:off x="1571760" y="350028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дросфер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Прямоугольник 20"/>
          <p:cNvSpPr/>
          <p:nvPr/>
        </p:nvSpPr>
        <p:spPr>
          <a:xfrm>
            <a:off x="1714680" y="53578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итосфер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Прямоугольник 21"/>
          <p:cNvSpPr/>
          <p:nvPr/>
        </p:nvSpPr>
        <p:spPr>
          <a:xfrm>
            <a:off x="4728240" y="357192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ивые организм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Прямоугольник 22"/>
          <p:cNvSpPr/>
          <p:nvPr/>
        </p:nvSpPr>
        <p:spPr>
          <a:xfrm>
            <a:off x="5232960" y="5345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иосфе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248760" y="786960"/>
            <a:ext cx="44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ементы неживой приро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Атмосфера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азовая оболочка состоит в основном из азота и кислорода. В небольших количествах в ней содержится диоксид углерода (0,03%) и озон. Состояние атмосферы оказывает большое влияние на физические, химические и биологические процессы на поверхности Земли и в водной сред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биологических процессов наибольшее значение имеют: кислород, используемый для дыхания и минерализации мертвого органического вещества, диоксид углерода, участвующий в фотосинтезе, и озон, экранирующий земную поверхность от жесткого ультрафиолетового излучени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зот, диоксид углерода, пары воды образовались в значительной мере благодаря вулканической деятельности, а кислород - в результате фотосинтез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716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Гидросфера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да - важнейший компонент биосферы и один из необходимых факторов существования живых организмов. Основная ее часть (95%) находится в Мировом океане, который занимает около 70% поверхности земного шара и содержит 1300 млн. км3. Поверхностные воды (озера, реки) включают всего 0,182 млн. км3, а количество воды в живых организмах составляет всего 0,001 млн. км3. Значительные запасы воды (24 млн. км3) содержат ледник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льшое значение имеют газы, растворенные в воде: кислород и диоксид углерода. Их количество широко варьирует от температуры и присутствия живых организмов. Диоксида углерода, содержащегося в воде, в 60 раз больше, чем в атмосфер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дросфера формировалась в связи с развитием литосферы, которая в течение геологической истории Земли выделяла большое количество водяного пар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628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Литосфера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сновная масса организмов, обитающих в пределах литосферы, находится в почвенном слое, глубина которого не превышает нескольких метров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чва включает минеральные вещества, образующиеся при разрушении горных пород, и органические вещества - продукты жизнедеятельности организмов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Закон незаменимост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Биосферу в нельзя заменить ничем иным, т.к. она для всех существующих ныне видов на Земле единственная среда обитания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Черты Биосферы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аличие особой формы организации материи – живого вещества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устойчивое динамичное равновесие и упорядоченность (организованность) структуры;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активное однонаправленное использование внешнего источника энергии – солнечного излучения;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активное использование воды как основного субстрата и основного компонента живых организмов;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Черты биосфер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негомогенное и недисперстное состояние веществ, находящихся в твердом, жидком и газообразном состоянии с наличием поверхности раздела между ними;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- биогенная миграция (круговорот) основных химических элементов;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- повсеместное распространение и задействование углерода;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- узкий диапазон колебаний основных физических параметров, обеспечивающий жизнедеятельность и сохранность белковых форм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ернадский В.И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2" name="Picture 4" descr="Вернадский"/>
          <p:cNvPicPr/>
          <p:nvPr/>
        </p:nvPicPr>
        <p:blipFill>
          <a:blip r:embed="rId1"/>
          <a:stretch/>
        </p:blipFill>
        <p:spPr>
          <a:xfrm>
            <a:off x="1763640" y="1197000"/>
            <a:ext cx="3727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716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Факторы Биосферы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ервичные, или ультимативные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факторы среды (биологические: пища, конкуренты, паразиты, хищники, загрязнения; небиологические, но контролируемые биосферой: газовый состав атмосферы, осадки, климат и т.п.). действие ультимативных факторов – прямое и беспощадно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 вторую группу объединяются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вторичные, или сигнальны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факторы, косвенно указывающие виду на избыточность его численност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войства биосфер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елостность и дискретность (изменение одного компонента приводит к изменению другого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ентрализованность (живое вещество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стойчивость и саморегуляция (принцип Ле Шателье-Брауна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войства биосфер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итмичность (Суточный ритм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уговорот веществ и энергозависимость Горизонтальная зональность и высотная поясн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ольшое разнообраз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масса Земли составляет 6*1021 т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объ­ем — 1,083*1012 км3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площадь поверхности — 510,2 млн км2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52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сновные этапы развития биосферы Земл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14200" y="714240"/>
          <a:ext cx="8572680" cy="5821560"/>
        </p:xfrm>
        <a:graphic>
          <a:graphicData uri="http://schemas.openxmlformats.org/drawingml/2006/table">
            <a:tbl>
              <a:tblPr/>
              <a:tblGrid>
                <a:gridCol w="2857680"/>
                <a:gridCol w="2857320"/>
                <a:gridCol w="2857680"/>
              </a:tblGrid>
              <a:tr h="100872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ьная шкала времени,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т назад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Годовая" шкала времен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ы эволюци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89964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 млрд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январ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 органических молекул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73044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 млрд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феврал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е бактери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73008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 млрд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март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альные колони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172332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 млрд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апрел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тчатые фотосинтезирующие бактери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72936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 – 2,6 млрд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рель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 разнообразия бактерий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0" y="0"/>
          <a:ext cx="9144000" cy="6859440"/>
        </p:xfrm>
        <a:graphic>
          <a:graphicData uri="http://schemas.openxmlformats.org/drawingml/2006/table">
            <a:tbl>
              <a:tblPr/>
              <a:tblGrid>
                <a:gridCol w="2862360"/>
                <a:gridCol w="2862000"/>
                <a:gridCol w="3419640"/>
              </a:tblGrid>
              <a:tr h="158112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 млрд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июл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ое разнообразие бактерий, развитие сложноорганизованных клеток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122868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 млрд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ентябр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е сложные клетки, характерные для животных и высших растений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158112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 – 0,7 млрд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 – октябрь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стрый рост разнообразия жизненных форм в морях, появление всех типов беспозвоночных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71280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 млн. – 300 млн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ябрь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позвоночных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87804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 млн. – 400 млн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– 20 ноябр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е челюстноротые рыбы, "век рыб"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87768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млн. – 300 млн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– 30 ноябр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Век амфибий", начало освоения суш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0" y="0"/>
          <a:ext cx="9144000" cy="6854760"/>
        </p:xfrm>
        <a:graphic>
          <a:graphicData uri="http://schemas.openxmlformats.org/drawingml/2006/table">
            <a:tbl>
              <a:tblPr/>
              <a:tblGrid>
                <a:gridCol w="1828800"/>
                <a:gridCol w="3584520"/>
                <a:gridCol w="3730680"/>
              </a:tblGrid>
              <a:tr h="80964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 млн. – 60 млн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декабря – 20 декабр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Век динозавров"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80964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млн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декабр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е млекопитающи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99864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млн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декабр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господства млекопитающих и птиц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80964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5 млн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 декабря, 10 час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эволюции человек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80964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 млн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 декабря, 16 час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й человек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80964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тыс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 декабря, 23 часа 52 минут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 разумный (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mo sapiens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80928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тыс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 декабря, 23 часа 58 минут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развития сельского хозяйств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99864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 декабря, 23 часа 59 минут 58 секунд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промышленной и научно-технической революций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иосфер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– совокупность всех живых организмов, обитающих на земле (Эдуард Зюсс ) 1875г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иосфер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– сфера единства живого и неживого(Вернадский В.И.)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троение и границы биосфе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ак место обетания организмов: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30" name="Organization Chart 6"/>
          <p:cNvGrpSpPr/>
          <p:nvPr/>
        </p:nvGrpSpPr>
        <p:grpSpPr>
          <a:xfrm>
            <a:off x="431640" y="1589040"/>
            <a:ext cx="8208360" cy="4462560"/>
            <a:chOff x="431640" y="1589040"/>
            <a:chExt cx="8208360" cy="4462560"/>
          </a:xfrm>
        </p:grpSpPr>
        <p:cxnSp>
          <p:nvCxnSpPr>
            <p:cNvPr id="131" name="_s1028"/>
            <p:cNvCxnSpPr>
              <a:stCxn id="132" idx="0"/>
              <a:endCxn id="133" idx="2"/>
            </p:cNvCxnSpPr>
            <p:nvPr/>
          </p:nvCxnSpPr>
          <p:spPr>
            <a:xfrm flipV="1" rot="16200000">
              <a:off x="5525640" y="238284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4" name="_s1029"/>
            <p:cNvCxnSpPr>
              <a:stCxn id="135" idx="0"/>
              <a:endCxn id="133" idx="2"/>
            </p:cNvCxnSpPr>
            <p:nvPr/>
          </p:nvCxnSpPr>
          <p:spPr>
            <a:xfrm flipV="1">
              <a:off x="4536000" y="3373200"/>
              <a:ext cx="3600" cy="893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6" name="_s1030"/>
            <p:cNvCxnSpPr>
              <a:stCxn id="137" idx="0"/>
              <a:endCxn id="133" idx="2"/>
            </p:cNvCxnSpPr>
            <p:nvPr/>
          </p:nvCxnSpPr>
          <p:spPr>
            <a:xfrm flipH="1" flipV="1" rot="5400000">
              <a:off x="2652840" y="23832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3" name="_s1031"/>
            <p:cNvSpPr/>
            <p:nvPr/>
          </p:nvSpPr>
          <p:spPr>
            <a:xfrm>
              <a:off x="3304440" y="158904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Биосфера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_s1032"/>
            <p:cNvSpPr/>
            <p:nvPr/>
          </p:nvSpPr>
          <p:spPr>
            <a:xfrm>
              <a:off x="431640" y="426672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ffffff"/>
                  </a:solidFill>
                  <a:latin typeface="Times New Roman"/>
                </a:rPr>
                <a:t>Геобиосфера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_s1033"/>
            <p:cNvSpPr/>
            <p:nvPr/>
          </p:nvSpPr>
          <p:spPr>
            <a:xfrm>
              <a:off x="3304440" y="426672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ffffff"/>
                  </a:solidFill>
                  <a:latin typeface="Times New Roman"/>
                </a:rPr>
                <a:t>Гидробиосфера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_s1034"/>
            <p:cNvSpPr/>
            <p:nvPr/>
          </p:nvSpPr>
          <p:spPr>
            <a:xfrm>
              <a:off x="6177600" y="426672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ffffff"/>
                  </a:solidFill>
                  <a:latin typeface="Times New Roman"/>
                </a:rPr>
                <a:t>Аэробиосфера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троение и границы биосфе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ак место обетания организмов: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Схема 6" descr=""/>
          <p:cNvPicPr/>
          <p:nvPr/>
        </p:nvPicPr>
        <p:blipFill>
          <a:blip r:embed="rId1"/>
          <a:stretch/>
        </p:blipFill>
        <p:spPr>
          <a:xfrm>
            <a:off x="-30240" y="781200"/>
            <a:ext cx="9283680" cy="57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троение и границы биосфе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ак место обетания организмов: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42" name="Organization Chart 6"/>
          <p:cNvGrpSpPr/>
          <p:nvPr/>
        </p:nvGrpSpPr>
        <p:grpSpPr>
          <a:xfrm>
            <a:off x="431640" y="1589040"/>
            <a:ext cx="8208360" cy="4462920"/>
            <a:chOff x="431640" y="1589040"/>
            <a:chExt cx="8208360" cy="4462920"/>
          </a:xfrm>
        </p:grpSpPr>
        <p:cxnSp>
          <p:nvCxnSpPr>
            <p:cNvPr id="143" name="_s2052"/>
            <p:cNvCxnSpPr>
              <a:stCxn id="144" idx="0"/>
              <a:endCxn id="145" idx="2"/>
            </p:cNvCxnSpPr>
            <p:nvPr/>
          </p:nvCxnSpPr>
          <p:spPr>
            <a:xfrm flipV="1" rot="16200000">
              <a:off x="5997240" y="3786120"/>
              <a:ext cx="558360" cy="174204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6" name="_s2053"/>
            <p:cNvCxnSpPr>
              <a:stCxn id="147" idx="0"/>
              <a:endCxn id="145" idx="2"/>
            </p:cNvCxnSpPr>
            <p:nvPr/>
          </p:nvCxnSpPr>
          <p:spPr>
            <a:xfrm flipH="1" flipV="1" rot="5400000">
              <a:off x="4256640" y="3786480"/>
              <a:ext cx="558360" cy="174132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8" name="_s2054"/>
            <p:cNvCxnSpPr>
              <a:stCxn id="145" idx="0"/>
              <a:endCxn id="149" idx="2"/>
            </p:cNvCxnSpPr>
            <p:nvPr/>
          </p:nvCxnSpPr>
          <p:spPr>
            <a:xfrm flipV="1" rot="16200000">
              <a:off x="4256280" y="2112480"/>
              <a:ext cx="558360" cy="174132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0" name="_s2055"/>
            <p:cNvCxnSpPr>
              <a:stCxn id="151" idx="0"/>
              <a:endCxn id="149" idx="2"/>
            </p:cNvCxnSpPr>
            <p:nvPr/>
          </p:nvCxnSpPr>
          <p:spPr>
            <a:xfrm flipH="1" flipV="1" rot="5400000">
              <a:off x="2515320" y="2112120"/>
              <a:ext cx="558360" cy="174204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9" name="_s2056"/>
            <p:cNvSpPr/>
            <p:nvPr/>
          </p:nvSpPr>
          <p:spPr>
            <a:xfrm>
              <a:off x="2172960" y="1589040"/>
              <a:ext cx="2984760" cy="11156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imes New Roman"/>
                </a:rPr>
                <a:t>гидробиосфера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_s2057"/>
            <p:cNvSpPr/>
            <p:nvPr/>
          </p:nvSpPr>
          <p:spPr>
            <a:xfrm>
              <a:off x="431640" y="3262680"/>
              <a:ext cx="2984760" cy="11156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imes New Roman"/>
                </a:rPr>
                <a:t>Маринобиосфера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imes New Roman"/>
                </a:rPr>
                <a:t>( океанобиосфера)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imes New Roman"/>
                </a:rPr>
                <a:t>Моря, океаны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_s2058"/>
            <p:cNvSpPr/>
            <p:nvPr/>
          </p:nvSpPr>
          <p:spPr>
            <a:xfrm>
              <a:off x="3913920" y="3262680"/>
              <a:ext cx="2984760" cy="11156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imes New Roman"/>
                </a:rPr>
                <a:t>Аквабиосфера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imes New Roman"/>
                </a:rPr>
                <a:t>Континентальные, 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imes New Roman"/>
                </a:rPr>
                <a:t>пресные воды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_s2059"/>
            <p:cNvSpPr/>
            <p:nvPr/>
          </p:nvSpPr>
          <p:spPr>
            <a:xfrm>
              <a:off x="2172960" y="4936320"/>
              <a:ext cx="2984760" cy="11156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imes New Roman"/>
                </a:rPr>
                <a:t>Лиманоаквабиосфера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imes New Roman"/>
                </a:rPr>
                <a:t>стоячие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_s2060"/>
            <p:cNvSpPr/>
            <p:nvPr/>
          </p:nvSpPr>
          <p:spPr>
            <a:xfrm>
              <a:off x="5655240" y="4936320"/>
              <a:ext cx="2984760" cy="11156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imes New Roman"/>
                </a:rPr>
                <a:t>Реоаквабиосфера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imes New Roman"/>
                </a:rPr>
                <a:t>проточные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04:59:44Z</dcterms:created>
  <dc:creator>dgim</dc:creator>
  <dc:description/>
  <dc:language>en-US</dc:language>
  <cp:lastModifiedBy>dgim</cp:lastModifiedBy>
  <dcterms:modified xsi:type="dcterms:W3CDTF">2011-03-04T05:58:04Z</dcterms:modified>
  <cp:revision>24</cp:revision>
  <dc:subject/>
  <dc:title>Человечество и биосфера. Учение Вернадского о биосфере и концепция ноосферы.</dc:title>
</cp:coreProperties>
</file>