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025-C21E-4D16-9609-1F6CF2A0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695-D969-4956-8D7C-F2C1FAA4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819-54B8-4E0B-8DEB-D4B2BDCE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183-CCBD-4C26-AE04-31CB2724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671D-3EF4-4F65-A178-E5807D1C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FC7E-AD9F-4058-A28F-5A949DEA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E349-AC0D-4F92-898B-2F9D83E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6DCF-1A75-428C-8D97-A4BC3534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BDA7-678D-4A42-8F22-F0E4EAEE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8EB5-53EB-43A3-9ADC-72138095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D354-C61E-446D-8DFE-82F7557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9EC-2FC9-48D1-AECA-4B5DA3A6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AA78-4EC4-4B65-825B-8D92792A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1B64-E563-4FB0-8E6D-35F0DFC2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7BCE-312E-4DFD-9A1C-FB31CC0C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F40F-274D-40EE-83F0-22C35B18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E3EA-3A98-42AC-8509-D5D07DDA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DDB-6CF2-47D1-8F4D-582344C5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339-832F-4A21-8035-E279A3E6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B70-220C-4059-AADA-7B747BAA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B82-CAD3-4B88-AA06-E1237D91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0D0-63B6-41B2-B472-1FF1574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111-B2BC-4E83-9681-57091D6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239-ADF6-4006-9495-D96929E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A945-682D-485E-8350-F3930E38AF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0F20-BD2C-49E9-B635-0D1B595264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расная книг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сная книга содержит сведения о редких, исчезающих под угрозой исчезновения видов растений, животных и других организмов с целью введения режима их особой охраны и воспроизвод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рода загрязн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16" descr=""/>
          <p:cNvPicPr/>
          <p:nvPr/>
        </p:nvPicPr>
        <p:blipFill>
          <a:blip r:embed="rId1"/>
          <a:srcRect l="7383" t="13755" r="7383" b="5604"/>
          <a:stretch/>
        </p:blipFill>
        <p:spPr>
          <a:xfrm>
            <a:off x="468360" y="907920"/>
            <a:ext cx="831204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 rot="5400000">
            <a:off x="1372320" y="-788040"/>
            <a:ext cx="5857920" cy="78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расная книг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ждународ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едераль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публиканская (областна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идимому исче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 угрозой исчезнов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стречаются в количестве достаточных для выж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дкий, есть угроза сокращения числе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сстановленные ви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собо охраняемые территор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ведник - заповедная территория, на которую запрещается заходить людям, исключая охрану и уче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парк - заповедная земля, которая делится на три части: заповедную (запретную для посторонних) зону, территорию, по которой можно проходить лишь по экскурсионным тропам, и зону отдыха, где можно проводить время по строго определенным правил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собо охраняемые территор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азник - определенный участок, где охраняются животный мир или растительность, или недра, а также отдельные виды животных и раст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мятник природы - редкий и уникальный объект природы. Среди памятников природы различают: геологические (скалы пещеры, обнажения различных пород и руд), гидрологические (ключи, озера и др. водоемы), ботанические (участки леса, степи, луга, болот), семикультурные (созданные руками человека - парки, рощи, пруды), историко-природные (места, связанные с историческими событиями и именами знатных граждан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акторы оценки О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енный фактор, определяется при аварийно-залповых выбросах, когда происходит прямое воздействие на О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странственный фактор, выявление особенностей распространения загрязняющих веществ в зависимости от природной зо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ременной аспект( выявление особенностей загрязнения при освоении природных ресурсов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иродные ресурсы и их использова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родные (естественные) ресурсы – это природные объекты и явления, т.е. различные тела и силы природы, которые человек использует для создания материальных благ, обеспечивающих не только поддержание существования человечества, но и постепенное повышение качества жизн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rcRect l="3692" t="9844" r="3692" b="9844"/>
          <a:stretch/>
        </p:blipFill>
        <p:spPr>
          <a:xfrm>
            <a:off x="111240" y="333360"/>
            <a:ext cx="903276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рода загрязн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0" name="Organization Chart 6"/>
          <p:cNvGrpSpPr/>
          <p:nvPr/>
        </p:nvGrpSpPr>
        <p:grpSpPr>
          <a:xfrm>
            <a:off x="431640" y="981000"/>
            <a:ext cx="8115480" cy="5122800"/>
            <a:chOff x="431640" y="981000"/>
            <a:chExt cx="8115480" cy="5122800"/>
          </a:xfrm>
        </p:grpSpPr>
        <p:cxnSp>
          <p:nvCxnSpPr>
            <p:cNvPr id="101" name="_s1028"/>
            <p:cNvCxnSpPr/>
            <p:nvPr/>
          </p:nvCxnSpPr>
          <p:spPr>
            <a:xfrm flipV="1" rot="16200000">
              <a:off x="5730120" y="4028400"/>
              <a:ext cx="438840" cy="2756520"/>
            </a:xfrm>
            <a:prstGeom prst="bentConnector3">
              <a:avLst>
                <a:gd name="adj1" fmla="val 247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H="1" flipV="1" rot="5400000">
              <a:off x="3210120" y="4399200"/>
              <a:ext cx="220320" cy="2234160"/>
            </a:xfrm>
            <a:prstGeom prst="bentConnector3">
              <a:avLst>
                <a:gd name="adj1" fmla="val 492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/>
            <p:nvPr/>
          </p:nvCxnSpPr>
          <p:spPr>
            <a:xfrm rot="10800000">
              <a:off x="1880640" y="1184760"/>
              <a:ext cx="2175480" cy="393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/>
            <p:nvPr/>
          </p:nvCxnSpPr>
          <p:spPr>
            <a:xfrm rot="10800000">
              <a:off x="1891440" y="1253880"/>
              <a:ext cx="2175840" cy="324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2"/>
            <p:cNvCxnSpPr/>
            <p:nvPr/>
          </p:nvCxnSpPr>
          <p:spPr>
            <a:xfrm rot="10800000">
              <a:off x="1882080" y="1117080"/>
              <a:ext cx="1177200" cy="25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3"/>
            <p:cNvCxnSpPr/>
            <p:nvPr/>
          </p:nvCxnSpPr>
          <p:spPr>
            <a:xfrm rot="10800000">
              <a:off x="1882080" y="1184760"/>
              <a:ext cx="1105560" cy="185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4"/>
            <p:cNvCxnSpPr/>
            <p:nvPr/>
          </p:nvCxnSpPr>
          <p:spPr>
            <a:xfrm rot="10800000">
              <a:off x="1907280" y="1321920"/>
              <a:ext cx="1179000" cy="103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5"/>
            <p:cNvCxnSpPr>
              <a:endCxn id="111" idx="2"/>
            </p:cNvCxnSpPr>
            <p:nvPr/>
          </p:nvCxnSpPr>
          <p:spPr>
            <a:xfrm rot="10800000">
              <a:off x="1880640" y="1443960"/>
              <a:ext cx="1178640" cy="42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36"/>
            <p:cNvSpPr/>
            <p:nvPr/>
          </p:nvSpPr>
          <p:spPr>
            <a:xfrm>
              <a:off x="431640" y="981000"/>
              <a:ext cx="2900520" cy="463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агрязн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7"/>
            <p:cNvSpPr/>
            <p:nvPr/>
          </p:nvSpPr>
          <p:spPr>
            <a:xfrm>
              <a:off x="2989440" y="1527120"/>
              <a:ext cx="2898720" cy="466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8"/>
            <p:cNvSpPr/>
            <p:nvPr/>
          </p:nvSpPr>
          <p:spPr>
            <a:xfrm>
              <a:off x="2987640" y="2142000"/>
              <a:ext cx="2900520" cy="463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ко-хим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9"/>
            <p:cNvSpPr/>
            <p:nvPr/>
          </p:nvSpPr>
          <p:spPr>
            <a:xfrm>
              <a:off x="2987640" y="2825640"/>
              <a:ext cx="2900520" cy="463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биолог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40"/>
            <p:cNvSpPr/>
            <p:nvPr/>
          </p:nvSpPr>
          <p:spPr>
            <a:xfrm>
              <a:off x="2987640" y="3509280"/>
              <a:ext cx="2900520" cy="463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хим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1"/>
            <p:cNvSpPr/>
            <p:nvPr/>
          </p:nvSpPr>
          <p:spPr>
            <a:xfrm>
              <a:off x="2987640" y="4260600"/>
              <a:ext cx="2900520" cy="463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естествен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42"/>
            <p:cNvSpPr/>
            <p:nvPr/>
          </p:nvSpPr>
          <p:spPr>
            <a:xfrm>
              <a:off x="2987640" y="4942800"/>
              <a:ext cx="2897280" cy="463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нтропоген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43"/>
            <p:cNvSpPr/>
            <p:nvPr/>
          </p:nvSpPr>
          <p:spPr>
            <a:xfrm>
              <a:off x="755640" y="5626440"/>
              <a:ext cx="2895480" cy="4093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рганизованные и неорганизова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4"/>
            <p:cNvSpPr/>
            <p:nvPr/>
          </p:nvSpPr>
          <p:spPr>
            <a:xfrm>
              <a:off x="5651640" y="5639760"/>
              <a:ext cx="2895480" cy="464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пределит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4"/>
          <p:cNvGraphicFramePr/>
          <p:nvPr/>
        </p:nvGraphicFramePr>
        <p:xfrm>
          <a:off x="611280" y="333360"/>
          <a:ext cx="7993080" cy="57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3360"/>
                    <a:ext cx="799308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58:00Z</dcterms:created>
  <dc:creator>dgim</dc:creator>
  <dc:description/>
  <dc:language>en-US</dc:language>
  <cp:lastModifiedBy>dgim</cp:lastModifiedBy>
  <dcterms:modified xsi:type="dcterms:W3CDTF">2009-03-25T09:32:16Z</dcterms:modified>
  <cp:revision>13</cp:revision>
  <dc:subject/>
  <dc:title>Определение понятия техносферы</dc:title>
</cp:coreProperties>
</file>