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6011-522B-4640-A1E0-1D87B788F0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E06A-0AB2-4452-9A82-5971261555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3877-3C81-4A09-A767-8FAC342A8C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7007-35F5-4429-89BE-17A93BBCB0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B254-DFFC-4575-8BAF-EB4DA63D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7D77-99AF-4BDE-8966-E379CBBB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1486-4BB5-44DD-ADC1-A76A66C6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C66-DFC0-4659-9265-FAA46D60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D86-0C1E-4B44-AB1B-E6ABF84E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1F2-0461-4DFB-B0FA-2EABF9CC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7D98-DFF9-48A9-8145-82FAA13D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3FEF-9CDB-4E5C-82B0-16B905E6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FBD-3C1C-4DF5-BF6A-7A866DC9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4D0-4B3A-49B9-9E18-AD0FC118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403-A414-4D34-9198-2AC75460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A88-1C32-459D-92E4-C91D8997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344F-E258-4245-9446-5BD32F6BCC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CDD5-A34C-413A-A504-49A11880A8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Экологическая оценка: основные понятия и принципы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14200" y="117360"/>
          <a:ext cx="8572680" cy="5958000"/>
        </p:xfrm>
        <a:graphic>
          <a:graphicData uri="http://schemas.openxmlformats.org/drawingml/2006/table">
            <a:tbl>
              <a:tblPr/>
              <a:tblGrid>
                <a:gridCol w="1428840"/>
                <a:gridCol w="1357200"/>
                <a:gridCol w="1571760"/>
                <a:gridCol w="1357200"/>
                <a:gridCol w="1428840"/>
                <a:gridCol w="1428840"/>
              </a:tblGrid>
              <a:tr h="202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ределение возможных воздейст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исание существующих усло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знаком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c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ществ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требован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сказание величины воздейст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 значимости во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ы по смягчению во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ум во время строительства (типы строительной техник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ум во время эксплуатации (типы оборудова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ичный уровень шума для данного типа местности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нные измерений Распределение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ельно допустимые уровни шума Стандарты В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дели распространения шума (разный уровень сложно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емлемость уровня/типа шума для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ияние на экосис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умозащитные барье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фик проведения строительных рабо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Оценка значимости воздейств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шкалы значимост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Юридический порог) Превышение стандартов, установленных законом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Функциональный порог) Неизбежные воздействия, приводящие к необратимому разрушению экосистем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Порог приемлемости) Воздействия, нарушающие сложившиеся местные нормы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Порог конфликта) Воздействия, вызывающие конфликт между группами общества по поводу ресурс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Порог предпочтений) Воздействия, касающиеся предпочтений тех или иных групп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смотрение альтернати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труктура и содержание ЗВ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Законодательные рамк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сновные сведения о проекте и альтернатива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Характеристика исходных природных условий и компонентов окружающей сред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Характеристика потенциальных факторов воздействия проекта на окружающую среду, предсказание возможных связанных с ними изменен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писание мероприятий по смягчению воздействий и обоснование выбора предпочтительной альтернатив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оцедуры консультаций (или согласований) с заинтересованными сторонами и общественностью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нятие реш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верка соответствия экологическим стандар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нализ экономической целесообраз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ногокритериальный анализ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оды экспертной оценки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слепроектные стад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ниторинг ре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ниторинг воздействия на окружающую сре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удит экологической оценки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4" descr="img7.gif"/>
          <p:cNvPicPr/>
          <p:nvPr/>
        </p:nvPicPr>
        <p:blipFill>
          <a:blip r:embed="rId1"/>
          <a:stretch/>
        </p:blipFill>
        <p:spPr>
          <a:xfrm>
            <a:off x="-214200" y="214200"/>
            <a:ext cx="940428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ратегическая экологическая оце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атегическая экологическая оцен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истематический процесс выявления и учета экологических факторов и возможных экологических последствий предлагаемых стратегий, политик, планов и програм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img9.gif"/>
          <p:cNvPicPr/>
          <p:nvPr/>
        </p:nvPicPr>
        <p:blipFill>
          <a:blip r:embed="rId1"/>
          <a:stretch/>
        </p:blipFill>
        <p:spPr>
          <a:xfrm>
            <a:off x="1571760" y="214200"/>
            <a:ext cx="5143320" cy="662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личие СЭО и ЭО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епени деталь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епени важ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Ярусный” под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833E-D2AC-4A22-BB6E-81FE7583C0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це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ологическая оцен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это процесс систематического анализа и оценки экологических последствий намечаемой деятельности, консультаций с заинтересованными сторонами, а также учет результатов этого анализа и консультаций в планировании, проектировании, утверждении и осуществлении данн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кологическая оценка в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Экологическая экспертиза — установление соответствия намечаемой хозяйственной и иной деятельности экологическим требованиям и определение допустимости реализации объекта экологической экспертизы в целях предупреждения возможных неблагоприятных воздействий этой деятельности на окружающую природную среду и связанных с ними социальных, экономических и иных последствий реализации объекта экологической экспертиз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ники ЭО в РФ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вест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азч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рядч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ьзователи объектов капитальных вложен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и основных стади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инвестиционного замысла и подготовку “Декларации (ходатайства) о намерениях”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снование инвестиций (предпроектная стадия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ку технико-экономического обоснования (проектная стадия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img12"/>
          <p:cNvPicPr/>
          <p:nvPr/>
        </p:nvPicPr>
        <p:blipFill>
          <a:blip r:embed="rId1"/>
          <a:stretch/>
        </p:blipFill>
        <p:spPr>
          <a:xfrm>
            <a:off x="2138400" y="428760"/>
            <a:ext cx="521496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img12"/>
          <p:cNvPicPr/>
          <p:nvPr/>
        </p:nvPicPr>
        <p:blipFill>
          <a:blip r:embed="rId1"/>
          <a:srcRect l="0" t="0" r="0" b="71996"/>
          <a:stretch/>
        </p:blipFill>
        <p:spPr>
          <a:xfrm>
            <a:off x="324000" y="1103400"/>
            <a:ext cx="882000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img12"/>
          <p:cNvPicPr/>
          <p:nvPr/>
        </p:nvPicPr>
        <p:blipFill>
          <a:blip r:embed="rId1"/>
          <a:srcRect l="0" t="23997" r="0" b="35995"/>
          <a:stretch/>
        </p:blipFill>
        <p:spPr>
          <a:xfrm>
            <a:off x="324000" y="765000"/>
            <a:ext cx="83883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img12"/>
          <p:cNvPicPr/>
          <p:nvPr/>
        </p:nvPicPr>
        <p:blipFill>
          <a:blip r:embed="rId1"/>
          <a:srcRect l="0" t="59998" r="0" b="0"/>
          <a:stretch/>
        </p:blipFill>
        <p:spPr>
          <a:xfrm>
            <a:off x="0" y="333360"/>
            <a:ext cx="914400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img12"/>
          <p:cNvPicPr/>
          <p:nvPr/>
        </p:nvPicPr>
        <p:blipFill>
          <a:blip r:embed="rId1"/>
          <a:stretch/>
        </p:blipFill>
        <p:spPr>
          <a:xfrm>
            <a:off x="2138400" y="428760"/>
            <a:ext cx="48672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О 14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5905" t="11075" r="17714" b="18458"/>
          <a:stretch/>
        </p:blipFill>
        <p:spPr>
          <a:xfrm>
            <a:off x="684360" y="1143000"/>
            <a:ext cx="748980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57200" y="260280"/>
          <a:ext cx="8218440" cy="5478480"/>
        </p:xfrm>
        <a:graphic>
          <a:graphicData uri="http://schemas.openxmlformats.org/drawingml/2006/table">
            <a:tbl>
              <a:tblPr/>
              <a:tblGrid>
                <a:gridCol w="2819520"/>
                <a:gridCol w="2879640"/>
                <a:gridCol w="2519280"/>
              </a:tblGrid>
              <a:tr h="80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 изучают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логическая эксперти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ЭО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юбая хозяйственная дея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логический ау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рка 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рият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Э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учшение 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рият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логический мониторин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ружающая сре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оровье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874F-D642-4B84-B5DD-ABFC646B53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Основные составляющие процесса экологической оценки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нализ (прогноз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енциальных воздействий намечаемой деятельности на окружающую среду и оценка их значим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 заинтересованными сторонами с целью поиска взаимоприемлемых реше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ие результатов прогноза воздействий и консультаций в процессе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инятия решен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относящихся к намечаем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CCD6-2DB4-4851-87BA-A2EB61F1BA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нципы Э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вентив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мплекснос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мократич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:\www.ecoline.ru\mc\eiabook\img2.gif"/>
          <p:cNvPicPr/>
          <p:nvPr/>
        </p:nvPicPr>
        <p:blipFill>
          <a:blip r:embed="rId1"/>
          <a:stretch/>
        </p:blipFill>
        <p:spPr>
          <a:xfrm>
            <a:off x="1714680" y="115920"/>
            <a:ext cx="471456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ценка значимости воздействий на окружающую сре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писание окружающей ср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Характер, величина, значимость воздейств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ценка значимости воздейств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Описание окружающей сред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арактеристика природных условий и компонентов окружающей ср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намика состояния окружающей ср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Характер, величина, значимость воздейств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Воздушную среду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Водную среду (поверхностные воды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Почвы и подземные воды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Шумовую обстановку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5. Экосистемы, растительный и животный мир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6. Ландшафт и визуальную обстановку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7. Социально-экономическую обстановку, в том числе здоровье населения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8. Культурно-историческое наслед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img6.gif"/>
          <p:cNvPicPr/>
          <p:nvPr/>
        </p:nvPicPr>
        <p:blipFill>
          <a:blip r:embed="rId1"/>
          <a:stretch/>
        </p:blipFill>
        <p:spPr>
          <a:xfrm>
            <a:off x="2000160" y="0"/>
            <a:ext cx="478656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14:23:44Z</dcterms:created>
  <dc:creator>Name</dc:creator>
  <dc:description/>
  <dc:language>en-US</dc:language>
  <cp:lastModifiedBy>vusovich ov</cp:lastModifiedBy>
  <dcterms:modified xsi:type="dcterms:W3CDTF">2011-05-20T07:44:40Z</dcterms:modified>
  <cp:revision>18</cp:revision>
  <dc:subject/>
  <dc:title>Слайд 1</dc:title>
</cp:coreProperties>
</file>