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BCA4-940C-4F59-AB55-21B6A04A8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EF6D-0266-45FB-AFAA-642434B7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7EA7-5D55-4A15-99E5-91357717A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9F39-4D17-4BB2-A095-00C3E7548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3141-D8BA-4336-99A4-91F513DCE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F482-70FE-4FF1-9613-622755C7C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BE84-B880-48E4-AB8A-21BD04231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74B3-B293-49DE-8F9F-97078C760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2E3D-C967-43BC-8E2E-FDF71CEEC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2AC7-5E04-4DE0-A564-52BC3F14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118B-3E41-4E5F-858C-A171CC9A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AAEB-AF76-46BE-B989-7FA9A833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9DEF0-538D-4616-A8A4-4EE162389D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m-1.narod.ru/book/ch1.html#s1#s1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кологический мониторин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611280" y="1844640"/>
            <a:ext cx="7705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ониторинг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информационная система наблюдений и анализа состояния природной среды, в первую очередь, уров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грязнения ее и эффектов, вызываемых ими в биосфере, а также прогнозирование последствий загрязн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истема экологического менеджмен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стема экологического менеджмента (СЭМ) — современный подход к уче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оритетов охраны окружающей среды при планировании и осуществлении деятельности организации,  неотъемлемая составная часть современной системы управления е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ЭМ, места приме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изводственные орган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висные организа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ганы государственного управл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овательные учрежд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ЭМ - успех орган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ЭМ позволяет систематизировать подходы к предотвращению и решению экологических проблем во всех аспектах бизнес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оссийских условиях сокращение издержек, вызванных нерациональным использованием ресурсов и материалов, потерями и пр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имущества СЭ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Organization Chart 8"/>
          <p:cNvGrpSpPr/>
          <p:nvPr/>
        </p:nvGrpSpPr>
        <p:grpSpPr>
          <a:xfrm>
            <a:off x="431640" y="836640"/>
            <a:ext cx="8710920" cy="5831640"/>
            <a:chOff x="431640" y="836640"/>
            <a:chExt cx="8710920" cy="5831640"/>
          </a:xfrm>
        </p:grpSpPr>
        <p:cxnSp>
          <p:nvCxnSpPr>
            <p:cNvPr id="81" name="_s3076"/>
            <p:cNvCxnSpPr>
              <a:stCxn id="82" idx="3"/>
              <a:endCxn id="83" idx="2"/>
            </p:cNvCxnSpPr>
            <p:nvPr/>
          </p:nvCxnSpPr>
          <p:spPr>
            <a:xfrm flipV="1">
              <a:off x="5657760" y="1669320"/>
              <a:ext cx="871560" cy="83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4" name="_s3077"/>
            <p:cNvCxnSpPr>
              <a:stCxn id="85" idx="3"/>
              <a:endCxn id="83" idx="2"/>
            </p:cNvCxnSpPr>
            <p:nvPr/>
          </p:nvCxnSpPr>
          <p:spPr>
            <a:xfrm flipV="1">
              <a:off x="5657760" y="1669320"/>
              <a:ext cx="871560" cy="4582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6" name="_s3078"/>
            <p:cNvCxnSpPr>
              <a:stCxn id="87" idx="3"/>
              <a:endCxn id="83" idx="2"/>
            </p:cNvCxnSpPr>
            <p:nvPr/>
          </p:nvCxnSpPr>
          <p:spPr>
            <a:xfrm flipV="1">
              <a:off x="5657760" y="1668960"/>
              <a:ext cx="871560" cy="3333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8" name="_s3079"/>
            <p:cNvCxnSpPr>
              <a:stCxn id="89" idx="3"/>
              <a:endCxn id="83" idx="2"/>
            </p:cNvCxnSpPr>
            <p:nvPr/>
          </p:nvCxnSpPr>
          <p:spPr>
            <a:xfrm flipV="1">
              <a:off x="5657760" y="1668960"/>
              <a:ext cx="871560" cy="2083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3" name="_s3080"/>
            <p:cNvSpPr/>
            <p:nvPr/>
          </p:nvSpPr>
          <p:spPr>
            <a:xfrm>
              <a:off x="3916080" y="836640"/>
              <a:ext cx="5226480" cy="833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СЭМ на предприяти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3081"/>
            <p:cNvSpPr/>
            <p:nvPr/>
          </p:nvSpPr>
          <p:spPr>
            <a:xfrm>
              <a:off x="431640" y="3335760"/>
              <a:ext cx="5226480" cy="833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овышение инвестиционной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ривлекательност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3082"/>
            <p:cNvSpPr/>
            <p:nvPr/>
          </p:nvSpPr>
          <p:spPr>
            <a:xfrm>
              <a:off x="431640" y="4585680"/>
              <a:ext cx="5226480" cy="833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Снижение страховых расходов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и стоимости кредитов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3083"/>
            <p:cNvSpPr/>
            <p:nvPr/>
          </p:nvSpPr>
          <p:spPr>
            <a:xfrm>
              <a:off x="431640" y="5835240"/>
              <a:ext cx="5226480" cy="833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омогает сократить издержки, повысить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качество не только продукции и услуг,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но и компании в целом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3084"/>
            <p:cNvSpPr/>
            <p:nvPr/>
          </p:nvSpPr>
          <p:spPr>
            <a:xfrm>
              <a:off x="431640" y="2086200"/>
              <a:ext cx="5226480" cy="833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Уменьшает негативное воздействие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родукции на окружающую среду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и здоровье человек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rcRect l="14762" t="7383" r="14762" b="11075"/>
          <a:stretch/>
        </p:blipFill>
        <p:spPr>
          <a:xfrm>
            <a:off x="1042920" y="0"/>
            <a:ext cx="7451640" cy="68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ЭМ в Ро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интересованные стороны в СЭ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еждународные фонды научно-технической помощ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осударственные органы, специально уполномоченные в области стандартизации и сертификации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осударственные органы, специально уполномоченные в области охраны окружающей сред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нсультанты, методические центры, консалтинговые организаци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рубежные и российские органы по сертифика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ультинациональные корпора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щественные организа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сшие учебные завед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кологический аудит в г. Томс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08000" y="765000"/>
          <a:ext cx="8856720" cy="5776920"/>
        </p:xfrm>
        <a:graphic>
          <a:graphicData uri="http://schemas.openxmlformats.org/drawingml/2006/table">
            <a:tbl>
              <a:tblPr/>
              <a:tblGrid>
                <a:gridCol w="1295280"/>
                <a:gridCol w="4464000"/>
                <a:gridCol w="3097440"/>
              </a:tblGrid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ОА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года от реализа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омское п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сокращению потребления питьевой воды на нужды производства и уточнению баланса водопотребления и водоотведе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улучшению работы аммиачно-компрессорного цех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кращение водопотребления и сброс сточных вод на сумму 335 тыс. руб.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экономия электроэнергии на сумму 365 тыс. 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П Томский инструм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уточнению баланса водопотребления и водоотведе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устранению потерь сжатого воздуха и оптимизации работы компрессорного цех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кращение удельного водопотребления воды на единицу продукции позволило сэкономить предприятию 200 тыс. руб.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зможна экономия электроэнергии на сумму 202 тыс. руб. при окупаемости инвестиций менее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5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омск мяс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конструкция оборотного водоснабже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олее рациональное использование воды при мойке помещений и оборудова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ведены исследования и экономические расчеты комплекса мероприятий по энергоэффективности: применению естественного охлаждения в камерах, использованию изолирующего материала, устранению потерь холода через двери благодаря применению пластиковых ш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экономия воды в весенне-летний период на сумму 84 тыс. руб.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зможна ежегодная экономия электроэнергии на сумму 220 тыс. руб. при окупаемости инвестиций за срок, составляющий менее двух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кологическая эксперти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кологическая экспертиз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 это оценка уровня возможных негативных воздействий намечаемой хозяйственной и иной деятельности на окружающую природную среду и природные ресурс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бъекты экологической экспертиз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екты и технико-экономические обоснования (ТЭО) строительства и эксплуатации хозяйственных сооружений, а также действующие предприятия и комплекс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рмативно-техническая документация на создание новой техники, технологий, материалов, а также на работающее оборудование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екты нормативных и административных актов и действующее законодатель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убъектами экологической экспертизы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онодательные и исполнительные органы государственной власти, а также суды различных уровне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иализированные правительственные организации (комитеты, комиссии, агентства, министерства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иализированные неправительственные организации (частные, общественные, кооперативные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дачи экологического мониторин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бор информа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состоянии сред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вень загрязнений в пространств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вень загрязнений во врем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иды экологической экспертиз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rganization Chart 6"/>
          <p:cNvGrpSpPr/>
          <p:nvPr/>
        </p:nvGrpSpPr>
        <p:grpSpPr>
          <a:xfrm>
            <a:off x="431640" y="1557360"/>
            <a:ext cx="8208000" cy="4491000"/>
            <a:chOff x="431640" y="1557360"/>
            <a:chExt cx="8208000" cy="4491000"/>
          </a:xfrm>
        </p:grpSpPr>
        <p:cxnSp>
          <p:nvCxnSpPr>
            <p:cNvPr id="103" name="_s4100"/>
            <p:cNvCxnSpPr>
              <a:stCxn id="104" idx="0"/>
              <a:endCxn id="105" idx="2"/>
            </p:cNvCxnSpPr>
            <p:nvPr/>
          </p:nvCxnSpPr>
          <p:spPr>
            <a:xfrm flipV="1" rot="16200000">
              <a:off x="5191200" y="2697480"/>
              <a:ext cx="898920" cy="2210040"/>
            </a:xfrm>
            <a:prstGeom prst="bentConnector3">
              <a:avLst>
                <a:gd name="adj1" fmla="val 1278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4101"/>
            <p:cNvCxnSpPr>
              <a:stCxn id="107" idx="0"/>
              <a:endCxn id="105" idx="2"/>
            </p:cNvCxnSpPr>
            <p:nvPr/>
          </p:nvCxnSpPr>
          <p:spPr>
            <a:xfrm flipH="1" flipV="1" rot="5400000">
              <a:off x="2981520" y="2697120"/>
              <a:ext cx="898920" cy="2210760"/>
            </a:xfrm>
            <a:prstGeom prst="bentConnector3">
              <a:avLst>
                <a:gd name="adj1" fmla="val 1278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5" name="_s4102"/>
            <p:cNvSpPr/>
            <p:nvPr/>
          </p:nvSpPr>
          <p:spPr>
            <a:xfrm>
              <a:off x="2642040" y="1557360"/>
              <a:ext cx="3788280" cy="1796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Экологическая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экспертиза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4103"/>
            <p:cNvSpPr/>
            <p:nvPr/>
          </p:nvSpPr>
          <p:spPr>
            <a:xfrm>
              <a:off x="431640" y="4251960"/>
              <a:ext cx="3788280" cy="1796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Государственная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4104"/>
            <p:cNvSpPr/>
            <p:nvPr/>
          </p:nvSpPr>
          <p:spPr>
            <a:xfrm>
              <a:off x="4851360" y="4251960"/>
              <a:ext cx="3788280" cy="1796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Общественная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457200" y="260280"/>
          <a:ext cx="8218440" cy="5478480"/>
        </p:xfrm>
        <a:graphic>
          <a:graphicData uri="http://schemas.openxmlformats.org/drawingml/2006/table">
            <a:tbl>
              <a:tblPr/>
              <a:tblGrid>
                <a:gridCol w="2819520"/>
                <a:gridCol w="2879640"/>
                <a:gridCol w="2519280"/>
              </a:tblGrid>
              <a:tr h="80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изучают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логическая экспертиз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ЭО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юбая хозяйственная дея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ек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логический ауди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рка деятельно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прият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Э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лучшение деятельно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прият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логический мониторин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ружающая сре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доровье челове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упени мониторин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Organization Chart 6"/>
          <p:cNvGrpSpPr/>
          <p:nvPr/>
        </p:nvGrpSpPr>
        <p:grpSpPr>
          <a:xfrm>
            <a:off x="431640" y="1484280"/>
            <a:ext cx="8208000" cy="4896720"/>
            <a:chOff x="431640" y="1484280"/>
            <a:chExt cx="8208000" cy="4896720"/>
          </a:xfrm>
        </p:grpSpPr>
        <p:cxnSp>
          <p:nvCxnSpPr>
            <p:cNvPr id="48" name="_s1028"/>
            <p:cNvCxnSpPr>
              <a:stCxn id="49" idx="1"/>
              <a:endCxn id="50" idx="2"/>
            </p:cNvCxnSpPr>
            <p:nvPr/>
          </p:nvCxnSpPr>
          <p:spPr>
            <a:xfrm rot="10800000">
              <a:off x="2893320" y="2373840"/>
              <a:ext cx="821520" cy="3562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1" name="_s1029"/>
            <p:cNvCxnSpPr>
              <a:stCxn id="52" idx="1"/>
              <a:endCxn id="50" idx="2"/>
            </p:cNvCxnSpPr>
            <p:nvPr/>
          </p:nvCxnSpPr>
          <p:spPr>
            <a:xfrm rot="10800000">
              <a:off x="2893320" y="2373840"/>
              <a:ext cx="821520" cy="2229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" name="_s1030"/>
            <p:cNvCxnSpPr>
              <a:stCxn id="54" idx="1"/>
              <a:endCxn id="50" idx="2"/>
            </p:cNvCxnSpPr>
            <p:nvPr/>
          </p:nvCxnSpPr>
          <p:spPr>
            <a:xfrm rot="10800000">
              <a:off x="2893320" y="2373840"/>
              <a:ext cx="821520" cy="891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0" name="_s1031"/>
            <p:cNvSpPr/>
            <p:nvPr/>
          </p:nvSpPr>
          <p:spPr>
            <a:xfrm>
              <a:off x="431640" y="1484280"/>
              <a:ext cx="4924800" cy="890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мониторинг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1032"/>
            <p:cNvSpPr/>
            <p:nvPr/>
          </p:nvSpPr>
          <p:spPr>
            <a:xfrm>
              <a:off x="3714840" y="2819520"/>
              <a:ext cx="4924800" cy="890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Наблюдение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1033"/>
            <p:cNvSpPr/>
            <p:nvPr/>
          </p:nvSpPr>
          <p:spPr>
            <a:xfrm>
              <a:off x="3714840" y="4155120"/>
              <a:ext cx="4924800" cy="890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Оценка состояния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1034"/>
            <p:cNvSpPr/>
            <p:nvPr/>
          </p:nvSpPr>
          <p:spPr>
            <a:xfrm>
              <a:off x="3714840" y="5490720"/>
              <a:ext cx="4924800" cy="890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Прогноз возможных изменений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ри уровня мониторин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Organization Chart 7"/>
          <p:cNvGrpSpPr/>
          <p:nvPr/>
        </p:nvGrpSpPr>
        <p:grpSpPr>
          <a:xfrm>
            <a:off x="468360" y="1341360"/>
            <a:ext cx="8208360" cy="4894560"/>
            <a:chOff x="468360" y="1341360"/>
            <a:chExt cx="8208360" cy="4894560"/>
          </a:xfrm>
        </p:grpSpPr>
        <p:cxnSp>
          <p:nvCxnSpPr>
            <p:cNvPr id="57" name="_s2052"/>
            <p:cNvCxnSpPr>
              <a:stCxn id="58" idx="0"/>
              <a:endCxn id="59" idx="2"/>
            </p:cNvCxnSpPr>
            <p:nvPr/>
          </p:nvCxnSpPr>
          <p:spPr>
            <a:xfrm flipV="1" rot="16200000">
              <a:off x="5519520" y="2351160"/>
              <a:ext cx="979200" cy="2873520"/>
            </a:xfrm>
            <a:prstGeom prst="bentConnector3">
              <a:avLst>
                <a:gd name="adj1" fmla="val 116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2053"/>
            <p:cNvCxnSpPr>
              <a:stCxn id="61" idx="0"/>
              <a:endCxn id="59" idx="2"/>
            </p:cNvCxnSpPr>
            <p:nvPr/>
          </p:nvCxnSpPr>
          <p:spPr>
            <a:xfrm flipV="1">
              <a:off x="4572720" y="3298680"/>
              <a:ext cx="3600" cy="979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2054"/>
            <p:cNvCxnSpPr>
              <a:stCxn id="63" idx="0"/>
              <a:endCxn id="59" idx="2"/>
            </p:cNvCxnSpPr>
            <p:nvPr/>
          </p:nvCxnSpPr>
          <p:spPr>
            <a:xfrm flipH="1" flipV="1" rot="5400000">
              <a:off x="2646360" y="2351520"/>
              <a:ext cx="979200" cy="2873520"/>
            </a:xfrm>
            <a:prstGeom prst="bentConnector3">
              <a:avLst>
                <a:gd name="adj1" fmla="val 116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9" name="_s2055"/>
            <p:cNvSpPr/>
            <p:nvPr/>
          </p:nvSpPr>
          <p:spPr>
            <a:xfrm>
              <a:off x="3341160" y="1341360"/>
              <a:ext cx="2462400" cy="1957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мониторинг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2056"/>
            <p:cNvSpPr/>
            <p:nvPr/>
          </p:nvSpPr>
          <p:spPr>
            <a:xfrm>
              <a:off x="468360" y="4278240"/>
              <a:ext cx="2462400" cy="1957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Санитарно-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токсикологический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мониторинг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2057"/>
            <p:cNvSpPr/>
            <p:nvPr/>
          </p:nvSpPr>
          <p:spPr>
            <a:xfrm>
              <a:off x="3341160" y="4278240"/>
              <a:ext cx="2462400" cy="1957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Экологический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мониторинг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2058"/>
            <p:cNvSpPr/>
            <p:nvPr/>
          </p:nvSpPr>
          <p:spPr>
            <a:xfrm>
              <a:off x="6214320" y="4278240"/>
              <a:ext cx="2462400" cy="1957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Биосферный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мониторинг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Блок-схема системы мониторинг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9" descr="Рис.1. Блок-схема системы мониторинга"/>
          <p:cNvPicPr/>
          <p:nvPr/>
        </p:nvPicPr>
        <p:blipFill>
          <a:blip r:embed="rId1"/>
          <a:stretch/>
        </p:blipFill>
        <p:spPr>
          <a:xfrm>
            <a:off x="500040" y="1500120"/>
            <a:ext cx="79405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Классификация экологического мониторинг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Рис.2. Классификация экологического мониторинга"/>
          <p:cNvPicPr/>
          <p:nvPr/>
        </p:nvPicPr>
        <p:blipFill>
          <a:blip r:embed="rId1"/>
          <a:stretch/>
        </p:blipFill>
        <p:spPr>
          <a:xfrm>
            <a:off x="428760" y="571680"/>
            <a:ext cx="78786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ипы программ системы мониторин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пактные(И)- изучает сильные воздействия, локального зна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гиональные (Р)- проблемы миграции и трансформации загрязняющих веществ, характерных для экономики реги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новые(Ф)- изучение заповед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ификация загрязняющих веществ по классам приоритетности, принятая в системе ГСМО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42960" y="1428840"/>
          <a:ext cx="7858080" cy="4395600"/>
        </p:xfrm>
        <a:graphic>
          <a:graphicData uri="http://schemas.openxmlformats.org/drawingml/2006/table">
            <a:tbl>
              <a:tblPr/>
              <a:tblGrid>
                <a:gridCol w="1214280"/>
                <a:gridCol w="2857680"/>
                <a:gridCol w="1822320"/>
                <a:gridCol w="1963800"/>
              </a:tblGrid>
              <a:tr h="745920"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лас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c168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рязняющее веществ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c168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c168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программы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уровень мониторинг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c168"/>
                    </a:solidFill>
                  </a:tcPr>
                </a:tc>
              </a:tr>
              <a:tr h="1071720">
                <a:tc rowSpan="2"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9cb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оксид серы, взвешенные частиц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9cb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ду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9cb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,Р,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9cb"/>
                    </a:solidFill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дионукли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9cb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щ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9cb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, 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9cb"/>
                    </a:solidFill>
                  </a:tcPr>
                </a:tc>
              </a:tr>
              <a:tr h="692280">
                <a:tc rowSpan="3"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9cb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он </a:t>
                      </a:r>
                      <a:r>
                        <a:rPr b="0" lang="ru-RU" sz="1600" spc="-1" strike="noStrike" u="sng" baseline="30000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9cb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ду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9cb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(тропосфера),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 (стратосфер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9cb"/>
                    </a:solidFill>
                  </a:tcPr>
                </a:tc>
              </a:tr>
              <a:tr h="76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лорорганические соединения и диоксин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9cb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та, челов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9cb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,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9cb"/>
                    </a:solidFill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дм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9cb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ща, вода, челов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9cb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9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214200" y="214200"/>
          <a:ext cx="8358480" cy="6446880"/>
        </p:xfrm>
        <a:graphic>
          <a:graphicData uri="http://schemas.openxmlformats.org/drawingml/2006/table">
            <a:tbl>
              <a:tblPr/>
              <a:tblGrid>
                <a:gridCol w="2089440"/>
                <a:gridCol w="2089080"/>
                <a:gridCol w="2090520"/>
                <a:gridCol w="2089440"/>
              </a:tblGrid>
              <a:tr h="466920">
                <a:tc rowSpan="2"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9cb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траты, нитри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9cb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а, пищ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9cb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9cb"/>
                    </a:solidFill>
                  </a:tcPr>
                </a:tc>
              </a:tr>
              <a:tr h="46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ды азо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9cb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ду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9cb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9cb"/>
                    </a:solidFill>
                  </a:tcPr>
                </a:tc>
              </a:tr>
              <a:tr h="379440">
                <a:tc rowSpan="3"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9cb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ту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9cb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ща, в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9cb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, 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9cb"/>
                    </a:solidFill>
                  </a:tcPr>
                </a:tc>
              </a:tr>
              <a:tr h="46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ине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9cb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дух, пищ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9cb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9cb"/>
                    </a:solidFill>
                  </a:tcPr>
                </a:tc>
              </a:tr>
              <a:tr h="46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оксид углер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9cb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ду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9cb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9cb"/>
                    </a:solidFill>
                  </a:tcPr>
                </a:tc>
              </a:tr>
              <a:tr h="466920">
                <a:tc rowSpan="2"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9cb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д углер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9cb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ду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9cb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9cb"/>
                    </a:solidFill>
                  </a:tcPr>
                </a:tc>
              </a:tr>
              <a:tr h="625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леводороды неф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9cb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ская в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9cb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, 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9cb"/>
                    </a:solidFill>
                  </a:tcPr>
                </a:tc>
              </a:tr>
              <a:tr h="466560"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9cb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тори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9cb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сная в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9cb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9cb"/>
                    </a:solidFill>
                  </a:tcPr>
                </a:tc>
              </a:tr>
              <a:tr h="466920">
                <a:tc rowSpan="2"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9cb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бе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9cb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ду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9cb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9cb"/>
                    </a:solidFill>
                  </a:tcPr>
                </a:tc>
              </a:tr>
              <a:tr h="46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ышья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9cb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тьевая с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9cb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9cb"/>
                    </a:solidFill>
                  </a:tcPr>
                </a:tc>
              </a:tr>
              <a:tr h="854280">
                <a:tc rowSpan="2"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9cb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биологические загряз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9cb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щ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9cb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, 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9cb"/>
                    </a:solidFill>
                  </a:tcPr>
                </a:tc>
              </a:tr>
              <a:tr h="85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кционноспособные загряз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9cb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ду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9cb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9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0T03:12:08Z</dcterms:created>
  <dc:creator>dgim</dc:creator>
  <dc:description/>
  <dc:language>en-US</dc:language>
  <cp:lastModifiedBy>vusovich ov</cp:lastModifiedBy>
  <dcterms:modified xsi:type="dcterms:W3CDTF">2011-05-20T07:38:24Z</dcterms:modified>
  <cp:revision>14</cp:revision>
  <dc:subject/>
  <dc:title>Экологический мониторинг</dc:title>
</cp:coreProperties>
</file>