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218-6CF3-42CA-8B51-7DCF2951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9D2-2BD2-46E8-AA98-AEFF8F08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0CE-D06B-42A2-9369-18D8A933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9D1-9B98-4DA7-B0C1-8EBE548F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EBF-3557-46AC-BC6D-493AF537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099-68D4-42E0-98CC-8E0DCBD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842-9F25-4066-9CD4-D5DCDBA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35C-DF12-4E33-909F-ED9E9290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EA6-D5E5-4422-9B13-6B341A88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B61-BE4F-42ED-B0E1-71975D4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5B7-24C1-43BF-82E2-196B8BF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0B2-FEA9-4773-9A3B-D7ECEFD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2CB8-D90A-4922-988A-50490FE55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енная функ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http://www.aup.ru/books/m98/1_10.files/image024.gif"/>
          <p:cNvPicPr/>
          <p:nvPr/>
        </p:nvPicPr>
        <p:blipFill>
          <a:blip r:embed="rId1"/>
          <a:stretch/>
        </p:blipFill>
        <p:spPr>
          <a:xfrm>
            <a:off x="142920" y="142920"/>
            <a:ext cx="6786360" cy="56433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214200" y="592920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намика и взаимосвязь общего среднего и предельного продук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ривая продукта"/>
          <p:cNvPicPr/>
          <p:nvPr/>
        </p:nvPicPr>
        <p:blipFill>
          <a:blip r:embed="rId1"/>
          <a:stretch/>
        </p:blipFill>
        <p:spPr>
          <a:xfrm>
            <a:off x="1428840" y="142920"/>
            <a:ext cx="478620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214200" y="607212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Кривая общего продукта (ТР); б) кривая среднего продукта (АР) и предельного продукта (МР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ll" descr="http://www.hi-edu.ru/e-books/xbook102/files/ris_19.gif"/>
          <p:cNvPicPr/>
          <p:nvPr/>
        </p:nvPicPr>
        <p:blipFill>
          <a:blip r:embed="rId1"/>
          <a:stretch/>
        </p:blipFill>
        <p:spPr>
          <a:xfrm>
            <a:off x="0" y="357120"/>
            <a:ext cx="4929120" cy="4429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285840" y="514368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кванты, представляющие разные уровни выпу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ll" descr="http://www.hi-edu.ru/e-books/xbook102/files/ris_20.gif"/>
          <p:cNvPicPr/>
          <p:nvPr/>
        </p:nvPicPr>
        <p:blipFill>
          <a:blip r:embed="rId1"/>
          <a:stretch/>
        </p:blipFill>
        <p:spPr>
          <a:xfrm>
            <a:off x="500040" y="357120"/>
            <a:ext cx="6929640" cy="50720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1447920" y="600084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ые конфигурации изокв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ll" descr="http://www.hi-edu.ru/e-books/xbook102/files/ris_21.gif"/>
          <p:cNvPicPr/>
          <p:nvPr/>
        </p:nvPicPr>
        <p:blipFill>
          <a:blip r:embed="rId1"/>
          <a:stretch/>
        </p:blipFill>
        <p:spPr>
          <a:xfrm>
            <a:off x="142920" y="285840"/>
            <a:ext cx="3857760" cy="3643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0" y="3929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нсивность применения производственных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ll" descr="http://www.hi-edu.ru/e-books/xbook102/files/ris_22.gif"/>
          <p:cNvPicPr/>
          <p:nvPr/>
        </p:nvPicPr>
        <p:blipFill>
          <a:blip r:embed="rId2"/>
          <a:stretch/>
        </p:blipFill>
        <p:spPr>
          <a:xfrm>
            <a:off x="4714920" y="428760"/>
            <a:ext cx="4071960" cy="3357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5234760" y="40006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и равных затрат (изокост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ll" descr="http://www.hi-edu.ru/e-books/xbook102/files/ris_23.gif"/>
          <p:cNvPicPr/>
          <p:nvPr/>
        </p:nvPicPr>
        <p:blipFill>
          <a:blip r:embed="rId1"/>
          <a:stretch/>
        </p:blipFill>
        <p:spPr>
          <a:xfrm>
            <a:off x="285840" y="214200"/>
            <a:ext cx="3857400" cy="30718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0" y="3643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тимальная комбинация факторов произ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ll" descr="http://www.hi-edu.ru/e-books/xbook102/files/ris_24.gif"/>
          <p:cNvPicPr/>
          <p:nvPr/>
        </p:nvPicPr>
        <p:blipFill>
          <a:blip r:embed="rId2"/>
          <a:stretch/>
        </p:blipFill>
        <p:spPr>
          <a:xfrm>
            <a:off x="4857840" y="285840"/>
            <a:ext cx="342900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4286160" y="3643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иния роста, или «путь развития» предпри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ll" descr="http://www.hi-edu.ru/e-books/xbook102/files/ris_25.gif"/>
          <p:cNvPicPr/>
          <p:nvPr/>
        </p:nvPicPr>
        <p:blipFill>
          <a:blip r:embed="rId1"/>
          <a:stretch/>
        </p:blipFill>
        <p:spPr>
          <a:xfrm>
            <a:off x="428760" y="500040"/>
            <a:ext cx="3357360" cy="3286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0" y="421560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роста в краткосрочном пери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ll" descr="http://www.hi-edu.ru/e-books/xbook102/files/ris_26.gif"/>
          <p:cNvPicPr/>
          <p:nvPr/>
        </p:nvPicPr>
        <p:blipFill>
          <a:blip r:embed="rId2"/>
          <a:stretch/>
        </p:blipFill>
        <p:spPr>
          <a:xfrm>
            <a:off x="4714920" y="428760"/>
            <a:ext cx="335736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4800240" y="4273560"/>
            <a:ext cx="38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роста в долгосрочном пери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Карта изоквант"/>
          <p:cNvPicPr/>
          <p:nvPr/>
        </p:nvPicPr>
        <p:blipFill>
          <a:blip r:embed="rId1"/>
          <a:stretch/>
        </p:blipFill>
        <p:spPr>
          <a:xfrm>
            <a:off x="214200" y="357120"/>
            <a:ext cx="3714840" cy="2286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938880" y="29289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 изокв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0600" y="3240"/>
            <a:ext cx="626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Эффект масштаб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2" descr="http://www.aup.ru/books/m98/1_10.files/image026.gif"/>
          <p:cNvPicPr/>
          <p:nvPr/>
        </p:nvPicPr>
        <p:blipFill>
          <a:blip r:embed="rId1"/>
          <a:stretch/>
        </p:blipFill>
        <p:spPr>
          <a:xfrm>
            <a:off x="428760" y="1214280"/>
            <a:ext cx="5286240" cy="32864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"/>
          <p:cNvSpPr/>
          <p:nvPr/>
        </p:nvSpPr>
        <p:spPr>
          <a:xfrm>
            <a:off x="1071720" y="4929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вая долгосрочных и средних издержек фир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http://www.aup.ru/books/m98/1_10.files/image028.gif"/>
          <p:cNvPicPr/>
          <p:nvPr/>
        </p:nvPicPr>
        <p:blipFill>
          <a:blip r:embed="rId1"/>
          <a:stretch/>
        </p:blipFill>
        <p:spPr>
          <a:xfrm>
            <a:off x="214200" y="214200"/>
            <a:ext cx="6429600" cy="46436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"/>
          <p:cNvSpPr/>
          <p:nvPr/>
        </p:nvSpPr>
        <p:spPr>
          <a:xfrm>
            <a:off x="1084320" y="542916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намика долгосрочных средних издерж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ая функция – это зависимость между набором факторов производства и максимально возможным объемом продукта, производимым с помощью данного набора факт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14240" y="4429080"/>
            <a:ext cx="500076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П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432720" y="2857680"/>
            <a:ext cx="4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3"/>
              <p:cNvSpPr txBox="1"/>
              <p:nvPr/>
            </p:nvSpPr>
            <p:spPr>
              <a:xfrm>
                <a:off x="1000080" y="2857680"/>
                <a:ext cx="8002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2"/>
              <p:cNvSpPr txBox="1"/>
              <p:nvPr/>
            </p:nvSpPr>
            <p:spPr>
              <a:xfrm>
                <a:off x="2224080" y="2857680"/>
                <a:ext cx="847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1"/>
              <p:cNvSpPr txBox="1"/>
              <p:nvPr/>
            </p:nvSpPr>
            <p:spPr>
              <a:xfrm>
                <a:off x="1000080" y="3786120"/>
                <a:ext cx="1125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440080" y="3786120"/>
                <a:ext cx="1184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2520" y="8481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437360" y="163728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1714680" y="2844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2000160" y="3929040"/>
            <a:ext cx="2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435960" y="3857760"/>
            <a:ext cx="4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производственных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214280"/>
            <a:ext cx="304308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инейная П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K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11760" y="2071800"/>
            <a:ext cx="634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Ф с фиксированными коэффициента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"/>
              <p:cNvSpPr txBox="1"/>
              <p:nvPr/>
            </p:nvSpPr>
            <p:spPr>
              <a:xfrm>
                <a:off x="642960" y="2643120"/>
                <a:ext cx="17622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Прямоугольник 6"/>
          <p:cNvSpPr/>
          <p:nvPr/>
        </p:nvSpPr>
        <p:spPr>
          <a:xfrm>
            <a:off x="285480" y="3357720"/>
            <a:ext cx="371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ультипликативная П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428760" y="38577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71680" y="45720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&lt;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308880" y="528624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истики мультипликативной ПФ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428760" y="1498680"/>
                <a:ext cx="785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"/>
              <p:cNvSpPr txBox="1"/>
              <p:nvPr/>
            </p:nvSpPr>
            <p:spPr>
              <a:xfrm>
                <a:off x="428760" y="2894040"/>
                <a:ext cx="7142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2357280" y="1643040"/>
                <a:ext cx="15717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α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Object 6" descr=""/>
          <p:cNvPicPr/>
          <p:nvPr/>
        </p:nvPicPr>
        <p:blipFill>
          <a:blip r:embed="rId1"/>
          <a:stretch/>
        </p:blipFill>
        <p:spPr>
          <a:xfrm>
            <a:off x="2286000" y="3032280"/>
            <a:ext cx="1428840" cy="825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57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ква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"/>
              <p:cNvSpPr txBox="1"/>
              <p:nvPr/>
            </p:nvSpPr>
            <p:spPr>
              <a:xfrm>
                <a:off x="285840" y="714240"/>
                <a:ext cx="2071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285840" y="1785960"/>
                <a:ext cx="3483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5286240" y="1571760"/>
                <a:ext cx="2428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/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000680" y="182340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428760" y="2857680"/>
                <a:ext cx="19285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428760" y="4000680"/>
                <a:ext cx="287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450720" y="5286240"/>
                <a:ext cx="3478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57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тепень однородно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364680" y="1143000"/>
            <a:ext cx="29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928800" y="18590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функция Кобба-Дугла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http://www.aup.ru/books/m98/1_10.files/image006.gif"/>
          <p:cNvPicPr/>
          <p:nvPr/>
        </p:nvPicPr>
        <p:blipFill>
          <a:blip r:embed="rId1"/>
          <a:stretch/>
        </p:blipFill>
        <p:spPr>
          <a:xfrm>
            <a:off x="571680" y="928800"/>
            <a:ext cx="207144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6" descr="http://www.aup.ru/books/m98/1_10.files/image012.gif"/>
          <p:cNvPicPr/>
          <p:nvPr/>
        </p:nvPicPr>
        <p:blipFill>
          <a:blip r:embed="rId2"/>
          <a:stretch/>
        </p:blipFill>
        <p:spPr>
          <a:xfrm>
            <a:off x="1428840" y="1614600"/>
            <a:ext cx="14288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7" descr="http://www.aup.ru/books/m98/1_10.files/image014.gif"/>
          <p:cNvPicPr/>
          <p:nvPr/>
        </p:nvPicPr>
        <p:blipFill>
          <a:blip r:embed="rId3"/>
          <a:stretch/>
        </p:blipFill>
        <p:spPr>
          <a:xfrm>
            <a:off x="3071880" y="1571760"/>
            <a:ext cx="1839960" cy="500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8" descr="http://www.aup.ru/books/m98/1_10.files/image016.gif"/>
          <p:cNvPicPr/>
          <p:nvPr/>
        </p:nvPicPr>
        <p:blipFill>
          <a:blip r:embed="rId4"/>
          <a:stretch/>
        </p:blipFill>
        <p:spPr>
          <a:xfrm>
            <a:off x="1357200" y="2071800"/>
            <a:ext cx="3286080" cy="500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9" descr="http://www.aup.ru/books/m98/1_10.files/image018.gif"/>
          <p:cNvPicPr/>
          <p:nvPr/>
        </p:nvPicPr>
        <p:blipFill>
          <a:blip r:embed="rId5"/>
          <a:stretch/>
        </p:blipFill>
        <p:spPr>
          <a:xfrm>
            <a:off x="1357200" y="2571840"/>
            <a:ext cx="3303720" cy="5000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4470840" y="1001520"/>
            <a:ext cx="18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787680" y="17146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787680" y="2214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http://www.aup.ru/books/m98/1_10.files/image020.gif"/>
          <p:cNvPicPr/>
          <p:nvPr/>
        </p:nvPicPr>
        <p:blipFill>
          <a:blip r:embed="rId1"/>
          <a:stretch/>
        </p:blipFill>
        <p:spPr>
          <a:xfrm>
            <a:off x="500040" y="178596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http://www.aup.ru/books/m98/1_10.files/image022.gif"/>
          <p:cNvPicPr/>
          <p:nvPr/>
        </p:nvPicPr>
        <p:blipFill>
          <a:blip r:embed="rId2"/>
          <a:stretch/>
        </p:blipFill>
        <p:spPr>
          <a:xfrm>
            <a:off x="571680" y="2714760"/>
            <a:ext cx="1500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1:37:09Z</dcterms:created>
  <dc:creator>dgim</dc:creator>
  <dc:description/>
  <dc:language>en-US</dc:language>
  <cp:lastModifiedBy>dgim</cp:lastModifiedBy>
  <dcterms:modified xsi:type="dcterms:W3CDTF">2009-12-18T04:18:43Z</dcterms:modified>
  <cp:revision>22</cp:revision>
  <dc:subject/>
  <dc:title>Производственные функции</dc:title>
</cp:coreProperties>
</file>