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92D-028B-447E-9CEC-F12E8FB9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BA0-90FB-476F-8520-D1FD1BF6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381-FEA0-4A6B-9358-DD7A89B6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27B-A0C3-411D-AC75-20447912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AA5-A33F-46D8-B79B-DA1A7D0A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769-F5EC-4DFC-B9D8-AB6F22CD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3B7-E369-4F66-BB52-B015B0CE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946-69CE-4C1F-BA3C-221B3DEE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A8F-72FF-4304-857E-9937B8FF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2C1-A615-4F38-AF35-A814B6E1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770-E9C2-418C-9FF2-0232F739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DF6-99D6-4EA4-A528-50640A6B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E04D-27A9-4607-9F71-2523887A53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Инновационный процесс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новационный процесс, обобщающий результаты инновационной деятельности, наиболее полно раскрывается этапами его организации, которые установлены в соответствии с основными стадиями эволюции научного знания в цикле рабо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сследования      разработки       производство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ледовательно сменяющиеся этапы инновационного процесса предусматривают как зарождение и обоснование идеи о новом методе удовлетворения общественных потребностей, так и создание, распространение, использование на практике конкретного продукта, технологии, услуг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трелка вправо 6"/>
          <p:cNvSpPr/>
          <p:nvPr/>
        </p:nvSpPr>
        <p:spPr>
          <a:xfrm>
            <a:off x="3143160" y="3429000"/>
            <a:ext cx="357120" cy="46080"/>
          </a:xfrm>
          <a:prstGeom prst="rightArrow">
            <a:avLst>
              <a:gd name="adj1" fmla="val 50000"/>
              <a:gd name="adj2" fmla="val 495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трелка вправо 7"/>
          <p:cNvSpPr/>
          <p:nvPr/>
        </p:nvSpPr>
        <p:spPr>
          <a:xfrm>
            <a:off x="5286240" y="3429000"/>
            <a:ext cx="357480" cy="46080"/>
          </a:xfrm>
          <a:prstGeom prst="rightArrow">
            <a:avLst>
              <a:gd name="adj1" fmla="val 50000"/>
              <a:gd name="adj2" fmla="val 496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дели инновационного процесса по Росвелл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нейная модел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нейно-последовательная модел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активная модел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понская модел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ческая моде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нейная модель инновационного процес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http://iii04.pfo-perm.ru/Data/GOLOS/Golos1.files/image010.gif"/>
          <p:cNvPicPr/>
          <p:nvPr/>
        </p:nvPicPr>
        <p:blipFill>
          <a:blip r:embed="rId1"/>
          <a:stretch/>
        </p:blipFill>
        <p:spPr>
          <a:xfrm>
            <a:off x="857160" y="1643040"/>
            <a:ext cx="76438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нейно-последовательная модель инновационного процесс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http://iii04.pfo-perm.ru/Data/GOLOS/Golos1.files/image011.gif"/>
          <p:cNvPicPr/>
          <p:nvPr/>
        </p:nvPicPr>
        <p:blipFill>
          <a:blip r:embed="rId1"/>
          <a:stretch/>
        </p:blipFill>
        <p:spPr>
          <a:xfrm>
            <a:off x="571680" y="1571760"/>
            <a:ext cx="8072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терактивная модель инновационного процесс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http://iii04.pfo-perm.ru/Data/GOLOS/Golos1.files/image003.gif"/>
          <p:cNvPicPr/>
          <p:nvPr/>
        </p:nvPicPr>
        <p:blipFill>
          <a:blip r:embed="rId1"/>
          <a:stretch/>
        </p:blipFill>
        <p:spPr>
          <a:xfrm>
            <a:off x="500040" y="1428840"/>
            <a:ext cx="79297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равнительная характеристика стабильного и инновационного процес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14200" y="1285920"/>
          <a:ext cx="8643960" cy="5165640"/>
        </p:xfrm>
        <a:graphic>
          <a:graphicData uri="http://schemas.openxmlformats.org/drawingml/2006/table">
            <a:tbl>
              <a:tblPr/>
              <a:tblGrid>
                <a:gridCol w="2143080"/>
                <a:gridCol w="3619800"/>
                <a:gridCol w="2881080"/>
              </a:tblGrid>
              <a:tr h="21024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Характеристика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Инновационный проце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Стабильный проце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Конечная ц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Удовлетворение новой общественной потреб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Удовлетворение сложившейся общественной потреб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Пути достижения ц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Многочисленны и неопределенны. Требуется разработка страте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Немногочисленны, известен оптимальный (наилучш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Риск при достижении ц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Тип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Дискрет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Непреры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Управляемость, возможности план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Управляемость, возможности план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Высо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Пла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Долгосрочные, возможна их корректир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Краткосрочные, в виде директивных производств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Развитие системы, в рамках которой осуществляется проце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Переход на новый уровень развития. Необходим проект и программа реализации стратегических изме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Сохранение данного уров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Взаимодействие интересов участников финансирования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Вступает в противореч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Основывается на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Степень совпадения интересов участников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Низ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Высо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Распределение сфер ответ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Перераспределя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Стабилизир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Формы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Гибкие, со слабой структуризаци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Жесткие, основаны на нормах и регламен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7:42:02Z</dcterms:created>
  <dc:creator>Admin</dc:creator>
  <dc:description/>
  <dc:language>en-US</dc:language>
  <cp:lastModifiedBy>dgim</cp:lastModifiedBy>
  <dcterms:modified xsi:type="dcterms:W3CDTF">2010-05-19T03:26:08Z</dcterms:modified>
  <cp:revision>21</cp:revision>
  <dc:subject/>
  <dc:title>Инновационный процесс:</dc:title>
</cp:coreProperties>
</file>