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597F-1392-40CD-8012-41439F84C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9A82-601C-4936-9627-FD8FD371E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84D1-60EC-452C-907D-C4D60EA90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EDE8-AA7E-4F93-A53C-A3D299CBC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0FB0-5D73-491B-89D4-1CA85ECEA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3943-D801-4F59-9BA5-B7069A621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5A01-B4FC-4192-A55E-738179FFF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0793-5D61-48CF-8047-451EF12C1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5F4A-1F9D-41E4-BBED-BFFDCFBB0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DEFC-72A4-44EE-ADE0-EAD951F3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A346-E0A0-43BE-99CE-601249F2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8189-1B0D-416F-B54B-162DF3455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3E45B-86C4-42AA-BD03-F620655229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Модели инновационного процесса по Росвелл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инейная модель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инейно-последовательная модель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терактивная модель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понская модель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ратегическая модел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Линейная модель инновационного процесс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Содержимое 3" descr="http://iii04.pfo-perm.ru/Data/GOLOS/Golos1.files/image010.gif"/>
          <p:cNvPicPr/>
          <p:nvPr/>
        </p:nvPicPr>
        <p:blipFill>
          <a:blip r:embed="rId1"/>
          <a:stretch/>
        </p:blipFill>
        <p:spPr>
          <a:xfrm>
            <a:off x="857160" y="1643040"/>
            <a:ext cx="76438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Линейно-последовательная модель инновационного процесса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Содержимое 3" descr="http://iii04.pfo-perm.ru/Data/GOLOS/Golos1.files/image011.gif"/>
          <p:cNvPicPr/>
          <p:nvPr/>
        </p:nvPicPr>
        <p:blipFill>
          <a:blip r:embed="rId1"/>
          <a:stretch/>
        </p:blipFill>
        <p:spPr>
          <a:xfrm>
            <a:off x="571680" y="1571760"/>
            <a:ext cx="8072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нтерактивная модель инновационного процесса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Содержимое 3" descr="http://iii04.pfo-perm.ru/Data/GOLOS/Golos1.files/image003.gif"/>
          <p:cNvPicPr/>
          <p:nvPr/>
        </p:nvPicPr>
        <p:blipFill>
          <a:blip r:embed="rId1"/>
          <a:stretch/>
        </p:blipFill>
        <p:spPr>
          <a:xfrm>
            <a:off x="500040" y="1428840"/>
            <a:ext cx="792972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4:48:38Z</dcterms:created>
  <dc:creator>dgim</dc:creator>
  <dc:description/>
  <dc:language>en-US</dc:language>
  <cp:lastModifiedBy>dgim</cp:lastModifiedBy>
  <dcterms:modified xsi:type="dcterms:W3CDTF">2009-05-04T14:53:31Z</dcterms:modified>
  <cp:revision>1</cp:revision>
  <dc:subject/>
  <dc:title>Модели инновационного процесса по Росвеллу</dc:title>
</cp:coreProperties>
</file>