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92BE-8B11-4EAC-AC47-1F6F337EEC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64FE-D527-4F8E-BBCD-A9DA0DF95E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08A-3EE0-4FA6-BEB0-12BCEA00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2DFC-8919-42E0-8133-C07C458C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76F2-D1C4-4D93-8FD2-321ED864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C9C-30EF-4CAC-A970-A8FCFA32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1FA2-6ED5-4035-B830-CDFEBC54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289-A1B7-4CC2-85E2-D7E56A74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7FE-AF17-40B6-9AC5-AA587739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2AD-9EF1-4A0C-B6B0-DAA67990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8997-9AF3-4A1A-BF1A-33B3DA15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ECF-AAAA-4542-89ED-0A161EB3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B11D-BF16-45FD-9364-CBF2062C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29C-F72A-4914-94F0-7922511F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73BE-F283-455D-A56C-505573DDAF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ы нелинейного программир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500040" y="263160"/>
            <a:ext cx="3643200" cy="13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a=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108680" y="773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661320" y="1785960"/>
            <a:ext cx="397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+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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+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"/>
              <p:cNvSpPr txBox="1"/>
              <p:nvPr/>
            </p:nvSpPr>
            <p:spPr>
              <a:xfrm>
                <a:off x="928800" y="2643120"/>
                <a:ext cx="27651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limUpp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δ</m:t>
                                      </m:r>
                                    </m:sub>
                                  </m:sSub>
                                </m:e>
                                <m:lim/>
                              </m:limUpp>
                              <m:r>
                                <m:t xml:space="preserve">=</m:t>
                              </m:r>
                              <m:r>
                                <m:t xml:space="preserve">a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b</m:t>
                                  </m:r>
                                </m:den>
                              </m:f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λ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limUpp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λ</m:t>
                                      </m:r>
                                    </m:sub>
                                  </m:sSub>
                                </m:e>
                                <m:lim/>
                              </m:limUpp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δ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0" name="Прямоугольник 8"/>
          <p:cNvSpPr/>
          <p:nvPr/>
        </p:nvSpPr>
        <p:spPr>
          <a:xfrm>
            <a:off x="1045080" y="5286240"/>
            <a:ext cx="230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2" descr="http://old.finec.ru/rus/parts/macroeconomics/chap9/images/ris9_16.jpg"/>
          <p:cNvPicPr/>
          <p:nvPr/>
        </p:nvPicPr>
        <p:blipFill>
          <a:blip r:embed="rId1"/>
          <a:srcRect l="8325" t="0" r="0" b="8084"/>
          <a:stretch/>
        </p:blipFill>
        <p:spPr>
          <a:xfrm>
            <a:off x="714240" y="0"/>
            <a:ext cx="7072560" cy="58420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500040" y="5719680"/>
            <a:ext cx="7715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. Равновесное и неравновесные сочетания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3929040" y="25480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217800" y="21420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10080" y="2428920"/>
            <a:ext cx="8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7503840" y="5500800"/>
            <a:ext cx="4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4146480" y="507204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457200" y="285840"/>
            <a:ext cx="8686800" cy="54291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434520" y="285840"/>
            <a:ext cx="7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7218000" y="464328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36040" y="5575320"/>
            <a:ext cx="660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 занятос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доли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циональном дохо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4080240" y="928800"/>
            <a:ext cx="505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5368680" y="1928880"/>
            <a:ext cx="5464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ъюнктурные циклы в экономике (модель Гудв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поте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7"/>
              <p:cNvSpPr txBox="1"/>
              <p:nvPr/>
            </p:nvSpPr>
            <p:spPr>
              <a:xfrm>
                <a:off x="250920" y="1341360"/>
                <a:ext cx="439236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κ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0" y="2941560"/>
                <a:ext cx="5545080" cy="15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0" y="4508640"/>
                <a:ext cx="5545080" cy="16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7164360" y="4581360"/>
                <a:ext cx="165744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Rectangle 8"/>
          <p:cNvSpPr/>
          <p:nvPr/>
        </p:nvSpPr>
        <p:spPr>
          <a:xfrm>
            <a:off x="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254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304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5148360" y="501228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344520" y="44870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1692360" y="1484280"/>
                <a:ext cx="208908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1547640" y="3357720"/>
                <a:ext cx="4284720" cy="19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Rectangle 8"/>
          <p:cNvSpPr/>
          <p:nvPr/>
        </p:nvSpPr>
        <p:spPr>
          <a:xfrm>
            <a:off x="0" y="252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 уравнен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395280" y="907920"/>
                <a:ext cx="612144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9"/>
              <p:cNvSpPr txBox="1"/>
              <p:nvPr/>
            </p:nvSpPr>
            <p:spPr>
              <a:xfrm>
                <a:off x="468360" y="2276640"/>
                <a:ext cx="7848720" cy="15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8"/>
              <p:cNvSpPr txBox="1"/>
              <p:nvPr/>
            </p:nvSpPr>
            <p:spPr>
              <a:xfrm>
                <a:off x="684360" y="3716280"/>
                <a:ext cx="223200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7"/>
              <p:cNvSpPr txBox="1"/>
              <p:nvPr/>
            </p:nvSpPr>
            <p:spPr>
              <a:xfrm>
                <a:off x="179280" y="5157720"/>
                <a:ext cx="374508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κ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4824360" y="5300640"/>
                <a:ext cx="431964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κ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κ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3" name="Rectangle 10"/>
          <p:cNvSpPr/>
          <p:nvPr/>
        </p:nvSpPr>
        <p:spPr>
          <a:xfrm>
            <a:off x="0" y="18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3120840" y="417564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8389800" y="2780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44160" y="2599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0" y="980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3795840" y="404280"/>
            <a:ext cx="48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=1/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39640" y="184428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10"/>
              <p:cNvSpPr txBox="1"/>
              <p:nvPr/>
            </p:nvSpPr>
            <p:spPr>
              <a:xfrm>
                <a:off x="3708360" y="2349360"/>
                <a:ext cx="215892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684360" y="2492280"/>
                <a:ext cx="246672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395280" y="1535040"/>
                <a:ext cx="61927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κγ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κ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Rectangle 5"/>
          <p:cNvSpPr/>
          <p:nvPr/>
        </p:nvSpPr>
        <p:spPr>
          <a:xfrm>
            <a:off x="829440" y="354960"/>
            <a:ext cx="15458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7"/>
              <p:cNvSpPr txBox="1"/>
              <p:nvPr/>
            </p:nvSpPr>
            <p:spPr>
              <a:xfrm>
                <a:off x="395280" y="3500280"/>
                <a:ext cx="432108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κ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6"/>
              <p:cNvSpPr txBox="1"/>
              <p:nvPr/>
            </p:nvSpPr>
            <p:spPr>
              <a:xfrm>
                <a:off x="395280" y="5392800"/>
                <a:ext cx="432108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κ</m:t>
                        </m:r>
                        <m:r>
                          <m:t xml:space="preserve">[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κ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Rectangle 8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44880" y="31536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44520" y="3913920"/>
            <a:ext cx="26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4"/>
              <p:cNvSpPr txBox="1"/>
              <p:nvPr/>
            </p:nvSpPr>
            <p:spPr>
              <a:xfrm>
                <a:off x="1119240" y="2336760"/>
                <a:ext cx="4995720" cy="22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δ</m:t>
                                  </m:r>
                                </m:e>
                              </m:acc>
                              <m:r>
                                <m:t xml:space="preserve">=</m:t>
                              </m:r>
                              <m:r>
                                <m:t xml:space="preserve">(</m:t>
                              </m:r>
                              <m:r>
                                <m:t xml:space="preserve">aλ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δ</m:t>
                              </m:r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λ</m:t>
                                  </m:r>
                                </m:e>
                              </m:acc>
                              <m:r>
                                <m:t xml:space="preserve">=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bδ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λ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Rectangle 6"/>
          <p:cNvSpPr/>
          <p:nvPr/>
        </p:nvSpPr>
        <p:spPr>
          <a:xfrm>
            <a:off x="2994480" y="5122080"/>
            <a:ext cx="54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равнение Лотки-Вольтер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6929280" y="32860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"/>
              <p:cNvSpPr txBox="1"/>
              <p:nvPr/>
            </p:nvSpPr>
            <p:spPr>
              <a:xfrm>
                <a:off x="500040" y="1500120"/>
                <a:ext cx="53308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)</m:t>
                    </m:r>
                    <m:r>
                      <m:t xml:space="preserve">dδ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)</m:t>
                    </m:r>
                    <m:r>
                      <m:t xml:space="preserve">d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564840" y="3000240"/>
            <a:ext cx="64458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n</a:t>
            </a: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n</a:t>
            </a: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ln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538560" y="3929040"/>
            <a:ext cx="413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en-US" sz="4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4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en-US" sz="4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4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4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en-US" sz="4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4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4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-285840" y="4738680"/>
            <a:ext cx="32860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=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733840" y="4786200"/>
            <a:ext cx="1752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=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0"/>
          <p:cNvSpPr/>
          <p:nvPr/>
        </p:nvSpPr>
        <p:spPr>
          <a:xfrm>
            <a:off x="578160" y="5572080"/>
            <a:ext cx="11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1"/>
          <p:cNvSpPr/>
          <p:nvPr/>
        </p:nvSpPr>
        <p:spPr>
          <a:xfrm>
            <a:off x="2577240" y="5643720"/>
            <a:ext cx="11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2"/>
          <p:cNvSpPr/>
          <p:nvPr/>
        </p:nvSpPr>
        <p:spPr>
          <a:xfrm>
            <a:off x="4808160" y="571500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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6:56:39Z</dcterms:created>
  <dc:creator>Olga</dc:creator>
  <dc:description/>
  <dc:language>en-US</dc:language>
  <cp:lastModifiedBy>dgim</cp:lastModifiedBy>
  <dcterms:modified xsi:type="dcterms:W3CDTF">2010-02-12T03:57:16Z</dcterms:modified>
  <cp:revision>12</cp:revision>
  <dc:subject/>
  <dc:title>Слайд 1</dc:title>
</cp:coreProperties>
</file>