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0F7-C0E1-4FA2-AFC7-043C15FF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676-50A9-4CF3-9D71-D5E4F2CF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73D-77EC-4178-A794-9EA3CB7D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12D-9267-4693-907A-0E72B6C4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F2D-B851-4922-A3EC-CD0F0A26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957-3DA5-43F6-90E4-CCA0BE0A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8D5-284D-4981-957B-36BF1D16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92B-D0EA-420E-8BD2-5646C469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8EA-89C1-4ADB-8FE1-FEC90560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A3D-8400-4BB9-8CDE-57FA1A40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08C-7ED8-4982-8C0D-153BC2BF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1C5-3B89-4BBD-A275-FAEB0BD8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B0E8-5C69-47F4-98BD-6356E780A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новационны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инновационный проект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д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деятельность, мероприятие, предполагающее осуществление комплекса каких-либо действий, обеспечивающих достижение определенных ц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сист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рганизационно-правовых и расчетно-финансовы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кумен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еобходимых для осуществления каких-либо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процес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существления инновацион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уровню научно-технической значимост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дернизаци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ваторский (улучшающие иннов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пережающий (базисные иннов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ионерный (базисные иннов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 точки зрения 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асштабности решаемых зада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нопроек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ультипроек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гапро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ми участниками инновационного проекта являются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азч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будущий владелец и пользователь результатов проекта (юридические, физические лиц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вес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юридические, физические лица, которые вкладывают деньги (заказчик и инвестор могут совпада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ектировщ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разработчик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авщ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организация, которая обеспечивает материально-техническое обеспеч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оводитель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юридическое лицо, которому заказчик делегирует полномочия по руководству работ по проек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анда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создается на период раб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896472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2" descr=""/>
          <p:cNvPicPr/>
          <p:nvPr/>
        </p:nvPicPr>
        <p:blipFill>
          <a:blip r:embed="rId1"/>
          <a:srcRect l="14767" t="11811" r="9449" b="7559"/>
          <a:stretch/>
        </p:blipFill>
        <p:spPr>
          <a:xfrm>
            <a:off x="0" y="0"/>
            <a:ext cx="889308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фаз жизненного цикла проек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620640"/>
          <a:ext cx="8229600" cy="7020000"/>
        </p:xfrm>
        <a:graphic>
          <a:graphicData uri="http://schemas.openxmlformats.org/drawingml/2006/table">
            <a:tbl>
              <a:tblPr/>
              <a:tblGrid>
                <a:gridCol w="2087640"/>
                <a:gridCol w="1584360"/>
                <a:gridCol w="588960"/>
                <a:gridCol w="768240"/>
                <a:gridCol w="1538280"/>
                <a:gridCol w="1662120"/>
              </a:tblGrid>
              <a:tr h="213480">
                <a:tc gridSpan="3"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инвестиционная фаза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стиционная фаза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инвестиционны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я и планирование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документации и подготовка к ре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торгов и заключение контра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ение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Изучение прогноз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азработка плана проектно-изыскательских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ключение контра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азработка плана реализ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усконаладочны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нализ условий для воплощения первоначального замысла, разработка концепции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адание на разработку ТЭО и разработка ТЭ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оговор на поставку обору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азработка граф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уск объ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едпроектное обоснование инвестиц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огласование, экспертиза и утверждение ТЭ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Договор на подрядные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ыполнение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Демобилизация ресурсов, анализ результа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ыбор и согласование места размещ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ыдача задания на проектиро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Разработка план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Мониторинг и контро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Эксплуат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Экологическое обосно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азработка, согласование и утверж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Корректировка плана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емонт и развитие производ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Экспертиз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инятие окончательного решения об инвестирова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плата выполненных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Закрытие проекта, демонтаж обору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Предварительное инвестиционное реш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сновные этапы и результаты инновационных процессов, источники их финанс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600200"/>
          <a:ext cx="9144000" cy="5164200"/>
        </p:xfrm>
        <a:graphic>
          <a:graphicData uri="http://schemas.openxmlformats.org/drawingml/2006/table">
            <a:tbl>
              <a:tblPr/>
              <a:tblGrid>
                <a:gridCol w="1477800"/>
                <a:gridCol w="2152800"/>
                <a:gridCol w="1820880"/>
                <a:gridCol w="1635120"/>
                <a:gridCol w="205740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и наименование раб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1, связанный с проведением поисковых 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2, включающий выполнение прикладных 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3 по выполнению опытно- и проектно-конструкторских работ (ОКР и ПК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4 по освоению производства новой продукции и коммерциализации иннов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ое содержание результатов по этапам раб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вижение, обоснование и экспериментальная проверка идей о новых методах удовлетворения общественных потреб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качественных характеристик новых методов посредствам разработки ТЗ и ТП на ОКР и ПКР, технологических иннов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опытных образцов новой продукции, корректировка и передача отработанной технической докум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ая окупаемость инвестиций в процессе реализации (коммерциализации) выпускаемой продукции, получение до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ый бюджет, в том числе по программам решения важнейших научно-технических пробл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ый бюджет, средства заказчиков, инновационных фон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ые средства промышленных организаций, средства заказчиков и государственный бюдж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ые средства организаций, эмиссия ценных бумаг и банковские кредиты, частичная поддержка со стороны госуд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7:17:41Z</dcterms:created>
  <dc:creator>Olga</dc:creator>
  <dc:description/>
  <dc:language>en-US</dc:language>
  <cp:lastModifiedBy>yavn</cp:lastModifiedBy>
  <dcterms:modified xsi:type="dcterms:W3CDTF">2010-01-12T08:41:13Z</dcterms:modified>
  <cp:revision>4</cp:revision>
  <dc:subject/>
  <dc:title>Инновационный проект</dc:title>
</cp:coreProperties>
</file>