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777-751D-436E-8AD8-FBFEE3FC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213-2F70-432C-8684-163A9055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88B-9B38-4A7A-93C0-410B4043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CFA-92A2-4866-A1D2-87B4B75A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EEA-56F5-4169-915E-D7959704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EEC-1E3B-4312-A2DA-99B0C134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233E-0C1A-48DB-A2C8-F2C2D935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8AA-08B8-44E2-AE77-4E179534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A3CF-A040-4B16-B811-1AE35036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B7EA-7D8D-4C9A-89C4-FBA6E2A0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836-4CC7-413E-A70C-9B3E4C9E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B6E-22E1-4B4B-9CE3-164F753F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1041-68FB-40B5-A94D-BDDF1C9637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Documents and Settings\dgim\Рабочий стол\Вусович\4.jpg"/>
          <p:cNvPicPr/>
          <p:nvPr/>
        </p:nvPicPr>
        <p:blipFill>
          <a:blip r:embed="rId1"/>
          <a:srcRect l="0" t="6126" r="0" b="6741"/>
          <a:stretch/>
        </p:blipFill>
        <p:spPr>
          <a:xfrm>
            <a:off x="1071720" y="428760"/>
            <a:ext cx="5857560" cy="6270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ые этапы инновационного цик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:\Documents and Settings\dgim\Рабочий стол\Вусович\3.jpg"/>
          <p:cNvPicPr/>
          <p:nvPr/>
        </p:nvPicPr>
        <p:blipFill>
          <a:blip r:embed="rId1"/>
          <a:srcRect l="8377" t="9146" r="6283" b="15678"/>
          <a:stretch/>
        </p:blipFill>
        <p:spPr>
          <a:xfrm>
            <a:off x="500040" y="1071720"/>
            <a:ext cx="7500960" cy="5295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стическая кривая кумулятивного развития научн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:\Documents and Settings\dgim\Рабочий стол\Вусович\1.jpg"/>
          <p:cNvPicPr/>
          <p:nvPr/>
        </p:nvPicPr>
        <p:blipFill>
          <a:blip r:embed="rId1"/>
          <a:srcRect l="3601" t="8202" r="10803" b="3076"/>
          <a:stretch/>
        </p:blipFill>
        <p:spPr>
          <a:xfrm>
            <a:off x="500040" y="0"/>
            <a:ext cx="728676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прерывный переход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:\Documents and Settings\dgim\Рабочий стол\Вусович\2.jpg"/>
          <p:cNvPicPr/>
          <p:nvPr/>
        </p:nvPicPr>
        <p:blipFill>
          <a:blip r:embed="rId1"/>
          <a:srcRect l="15198" t="4159" r="34737" b="65507"/>
          <a:stretch/>
        </p:blipFill>
        <p:spPr>
          <a:xfrm>
            <a:off x="714240" y="571680"/>
            <a:ext cx="721548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аздывающий перех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:\Documents and Settings\dgim\Рабочий стол\Вусович\2.jpg"/>
          <p:cNvPicPr/>
          <p:nvPr/>
        </p:nvPicPr>
        <p:blipFill>
          <a:blip r:embed="rId1"/>
          <a:srcRect l="15198" t="35350" r="36192" b="36910"/>
          <a:stretch/>
        </p:blipFill>
        <p:spPr>
          <a:xfrm>
            <a:off x="857160" y="714240"/>
            <a:ext cx="707256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ережающий перех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:\Documents and Settings\dgim\Рабочий стол\Вусович\2.jpg"/>
          <p:cNvPicPr/>
          <p:nvPr/>
        </p:nvPicPr>
        <p:blipFill>
          <a:blip r:embed="rId1"/>
          <a:srcRect l="15198" t="63948" r="42705" b="5199"/>
          <a:stretch/>
        </p:blipFill>
        <p:spPr>
          <a:xfrm>
            <a:off x="928800" y="642960"/>
            <a:ext cx="593244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05:13:33Z</dcterms:created>
  <dc:creator>Вусович</dc:creator>
  <dc:description/>
  <dc:language>en-US</dc:language>
  <cp:lastModifiedBy>Вусович</cp:lastModifiedBy>
  <dcterms:modified xsi:type="dcterms:W3CDTF">2008-11-28T05:54:58Z</dcterms:modified>
  <cp:revision>5</cp:revision>
  <dc:subject/>
  <dc:title>Основные этапы инновационного цикла</dc:title>
</cp:coreProperties>
</file>