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EF6-9E8C-4CDB-B363-BC4B3F9D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F6E-C8BF-4D49-A903-E6730A04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B48-0ED9-4BD5-B5B0-AE1E7D4A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BFA-7239-44E7-9A5C-29BC28D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B62-2636-4F9D-B224-41EF698A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1B48-50CD-4675-894C-A18C114B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BA67-8436-401C-B9DD-B61FF98A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A62E-378D-4EA6-81C9-12A8D576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164D-1C3C-496A-B09C-53679303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BFD1-D703-442D-8A74-EAD6889F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4FF1-6A66-498C-8AC2-B94B1905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C11-46AE-4761-806F-0853217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5E7D-DE53-4FE2-A5D4-7CA8EE08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F4AB-F022-45A2-B749-501274D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CBD7-EE33-4C6A-9EC5-45B9D820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50C-5F7C-46D5-A8FE-7B4C40EE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4089-7FD5-45DF-A08C-06CFC612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B5D-6F38-4870-8760-2C5822E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54D-A3F2-476B-9D0A-F6134A55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3E6-914D-4123-A26C-12EE844E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943-2225-4276-94A7-3FE7655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3CE-79FC-489C-862F-A7026C05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4D0-28CC-4488-9A1D-E2CD6893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DBD-691B-4102-9812-344F97F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3831-2170-47C9-8325-69CB2CBF1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A941-4A55-4430-ADEE-8EF54720204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ис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E6D3-715F-4515-A6D9-EDA27E4CF0F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Риски правового обеспечения проек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шибочный выбор территориальных рынков патентной защиты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остаточно плотные патентные защиты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олучение или запаздывание патентной защиты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граничение в сроках патентной защиты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просроченных лицензий на отдельные виды деятельност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утечка» отдельных технических решени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явление патентнозащищенных конкурен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E379-A3B6-4591-8906-FD85D6A43F6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Риски коммерческого предлож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оответствие рыночной стратегии фирм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сутствие поставщиков необходимых ресурсов и комплектующи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выполнение поставщиками обязательств по срокам и качеству поста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497A-A39B-494B-AC35-C67AC46BF7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оны риск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на допустимого риска: возникновение рисковой ситуации не приводит к существенному ухудшению финансового положения компани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на умеренного риска: убытки от возникновения рискового события покрываются прибылью других областей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на высокого риска: в результате возникновения рисковой ситуации ухудшается финансовое положение компан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на недопустимого риска: рисковое событие приводит к неплатежеспособности или банкротству предпри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CB7-7234-4971-8542-93577CF16FB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атегические решения управления рис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бежание рис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держание (ограничение) рис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дача рис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мострахова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спределение рис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ивер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ими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Хеджирова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рах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8DB-8565-4030-940C-738438231FA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ы инновационных рисков в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иск оригинальн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иск технологической неадекватн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иск юридической неадекватн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иск финансовой неадекватн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иск неуправляемости проект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26A-127E-4F69-A9C1-4D3D43B71D8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ис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вероятность наступления неблагоприятных событий, ведущих к потерям, убытк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иск инновацион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это возможность получения результата, не обеспечивающего достижения поставленной цели, наносящего ущерб инициаторам инновационного процес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правление риском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процесс изучения параметров объекта и субъекта риска, внешних и внутренних факторов, влияющих на объект и поведение субъекта риска, его оптимизации, планирования, учета и контроля, мотивации и регулирования выполнения работ по управлению риск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8479-476F-4D05-9777-12EFE6B4A10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7383" t="19688" r="7383" b="13289"/>
          <a:stretch/>
        </p:blipFill>
        <p:spPr>
          <a:xfrm>
            <a:off x="0" y="260280"/>
            <a:ext cx="9396360" cy="554220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0A07-13B9-4183-815D-7B41D2902B4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оциально-политические рис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итическая нестабиль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чие населения к формам собствен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овень преступ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ношение населения к формам собствен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ая политика государ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пень ограничения монопол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ношение населения к предпринимательств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щита конкурен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93E-FDEF-4376-9F82-841A019024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кроэкономические риск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стойчивость экономическ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овень государственного регу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аза делового цик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яние финансов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пень достоверности микроэкономической информ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овень доходов насе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нимательская акти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ультура бизнеса (привычки, традиции, норм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10B-3EC0-4686-89F3-21F7DF8B59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икроэкономические риск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а собстве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ля компании на рын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нансовое состояние компа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дровый потенциал компа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вестиционная привлека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онная система упр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новационный потенци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я производ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6B75-9310-42AC-86BD-99B491E1163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авовые риск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пень совершенства законодательной ба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пень совершенства арбитражного производ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ь за нарушение контрактных обязатель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пень защищенности внутреннего ры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моженная поли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рифные согла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цензионная поли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щищенность движения капитала и продук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FCEA-181D-4D24-8D57-C4017FDC791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Технологические риск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хнологический потенциал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визна технологий и продук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ство продук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курентоспособность продук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овень вредных отходов (выброс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опасность и надеж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ьная восприимчивость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сткость требований к сырью и ресурс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B62B-C61B-454E-AF7E-A923F75108A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дентификация риско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учно-технические риск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рицательные результаты НИР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клонения параметр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КР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соответствие технического уровня производства техническому уровню инноваци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соответствие кадров профессиональным требованиям проект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клонение в сроках реализации этапов проектировани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никновение непредвиденных научно-технических пробл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43FC-3CB0-4701-A0A3-64496B5A7B0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7:16:28Z</dcterms:created>
  <dc:creator>Olga</dc:creator>
  <dc:description/>
  <dc:language>en-US</dc:language>
  <cp:lastModifiedBy>dgim</cp:lastModifiedBy>
  <dcterms:modified xsi:type="dcterms:W3CDTF">2010-05-06T01:38:31Z</dcterms:modified>
  <cp:revision>5</cp:revision>
  <dc:subject/>
  <dc:title>Риски</dc:title>
</cp:coreProperties>
</file>