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DE8D-2C03-42A0-BDA8-AA4B2B29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9127-1CC7-4B13-97AE-77802210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9478-2631-4D98-B96E-01F3AF9B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3814-ACE0-4D1F-A0AA-9BAC0C2A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502B-9160-4A1A-8C71-07EF2310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0245-E565-462D-ADD8-F45FB8A4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A613-AB04-4715-B044-DBA808B7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DD9F-B1BE-4A30-A6B5-D4BC6F2B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5F6E-3E68-4258-A696-B6BD9770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813A-F2B6-4EB0-A317-AE9C8693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7164-12B6-4FFE-97D7-9BABC9F3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723F-CD4A-4E50-BE0B-20CC9F29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A570-4228-46C0-9D17-E0721FE1F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ория иннова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1413000"/>
            <a:ext cx="799308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диная информационная ср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данные — информация — знания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знаки макротехнологи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ие объемы производства проду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сть продукции и соответственно технолог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коемкость проду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утствие на мировом ры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ротехнологии — это совокупность всех технологических процес­сов по созданию определенного вида продукции с заданными парамет­рами, т. е. НИОКР, подготовка производства, производство, сбыт, сер­висная поддержка и 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ритические технолог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итическая технология — сложное системное понятие для обозначения технологических и технических проектов и решений, необходимых для укрепления обороноспособности страны и совершенствования новейших вооруж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хнологии двойного назна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и двойного назначения — это технологии, которые могут быть использованы при создании как вооружения и военной техники, так и продукции гражданского назна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нформационные технологии включа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ходящуюся совокупность технологий в микроэлектронике, создании вычислительной техники (машин и программного обеспечения), телекоммуникации/вещании и оптикоэлектронной промышлен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ную инженерию и расширяющееся множество ее дополнений и примен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нотехн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нотехнологии включают атомную сборку молекул, новые методы записи и считывания информации, локальную стимуляцию химических реакций на молекулярном уровне 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егиональные технолог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региональные технологии» - это технологии для  которых технологическое пространство определяется значительной территорией, где расположены и действуют взаимосвязанные производственные объек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лобальные технолог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обальные технологии – развитые региональные технологии, которые ограничены частью земной, водной и воздушной поверхности планеты, и способствуют, обеспечению работы систем связи, мониторинга из космоса состояния поверхности Земли и водных бассейнов и т. 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оритетные направления развития науки, технологий и техники Российской Федерации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утв. Президентом РФ 30 марта 2002 г. N Пр-57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формационно-телекоммуникационные технологии и электро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мические и авиационн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вые материалы и химически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вые транспортн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спективные вооружения, военная и специальная тех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изводственн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хнологии жив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ология и рациональное природополь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нергосберегающи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хнологические платформы как приоритеты научных проектов в Европейском сообществ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Продукты питания, сельское хозяйство и биотехнолог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Нанонауки, нанотехнологии, новые материалы и производственные технологии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Информационные и коммуникационные технологии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Энергетика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Социально-экономические и гуманитарные науки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анные –факты беспристраст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нформация - умозрительная интерпретация данных, фактов, способная искажать значения лежащих в их основе данн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Зна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о природе своей пассивно, но наличие у индивидуума умственных способностей и технологии его реализации создает возможность превращения знания в конкретные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нание особ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ование знаний, в отличие от использования других производственных ресурсов, не уменьшает их количества и ведет к дальнейшему распространению и накопл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ование знаний в качестве непосредственной производительной силы увеличивает производительность труда в 10—100 и более раз, активно при этом стимулируя новый спрос на зн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ния как информационные ресурсы становятся все более дешевыми, что способствует их распространению, т. е. имеет место фактор самовозрастания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личные виды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ственно новые зн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оретические и прикладные зн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ния, имеющие устойчивое и скоропреходяще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ния, необходимые для действия или контроля; знания, приобретаемые для общего образования; знания для высоких духовных ц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ллектуальные, развлекательные и ненужные зн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ние общее и национальн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ние как общественное и как частное бла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 междисциплинарной деятельност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1197000"/>
          <a:ext cx="8424720" cy="30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42472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нта Мёбиу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568800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рганизационно-техническая модель Щедровицк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590544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536688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ула процесса образования; круги познаний студента и знаний профессионального специалист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8036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технология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ротехнолог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рывные и критические технолог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и двойного назнач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ые технолог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нотехнолог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иональные технолог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обальные техн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02:44:43Z</dcterms:created>
  <dc:creator>dgim</dc:creator>
  <dc:description/>
  <dc:language>en-US</dc:language>
  <cp:lastModifiedBy>dgim</cp:lastModifiedBy>
  <dcterms:modified xsi:type="dcterms:W3CDTF">2008-09-12T03:58:45Z</dcterms:modified>
  <cp:revision>6</cp:revision>
  <dc:subject/>
  <dc:title>Теория инноваций</dc:title>
</cp:coreProperties>
</file>