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A88-BEF9-47FD-AF4D-0D73788B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C6E-F311-455A-9F36-86D822B5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4DC-B954-4B60-8E2E-41ACB33A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42E-AA98-44AA-BF6A-1744677F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EF4-F1C3-4B25-82F9-A2F93BC2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E66-5C16-4779-B292-06C00A35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DE8-1BEC-470F-A305-09DCC5B5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785-60FB-4A42-8C39-7F0FF38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49D-4A63-43AF-A15E-D5FBB127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3E5-7097-4AC0-8092-0A681262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B5D-D930-4A4F-9C6B-BB2C318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623-0B8A-4FAB-BF52-E44FCF54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1958-C70C-4948-B877-1509AE86B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t4b.icsti.su/index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cpk.ru/" TargetMode="External"/><Relationship Id="rId2" Type="http://schemas.openxmlformats.org/officeDocument/2006/relationships/hyperlink" Target="http://www.kadryedu.ru/" TargetMode="External"/><Relationship Id="rId3" Type="http://schemas.openxmlformats.org/officeDocument/2006/relationships/hyperlink" Target="http://www.stipendia.ru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t4b.icsti.su/docs/politika/minprom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сударственное регулирование инновацион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циональной инновационной системы предусматривает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благоприятной экономической и правовой сре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е инновационной инфраструкту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ршенствование механизмов государственного содействия коммерциализации результатов научных исследований и экспериментальных разрабо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ми направлениями государственной политики в области развития науки и технологий являют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фундаментальной науки, важнейших прикладных исследований и разработо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государственного регулирования в области развития науки и технолог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национальной инновационной сис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использования результатов научной и научно-техническ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и развитие кадрового потенциала научно-технического комплек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я науки и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международного научно-технического сотрудни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041840" y="223560"/>
            <a:ext cx="48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Финансирование из федер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47760" y="1290960"/>
            <a:ext cx="8161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е целевые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 Государственный зака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едеральная контрактная систе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Бюджетные фонды поддержк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фонд фундаментальных исслед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 содействия развитию малых форм предприятий в научно-технической сф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Главная страниц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373040" y="3878280"/>
            <a:ext cx="22860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рантообразующие фонды, финансирующие инновационную деятельность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йский Фонд технологического развит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д Содействия развитию малых форм предприятий в научно-технической сфер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нчурный инновац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Ф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йский фонд фундаментальных исследований (РФФ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йский гуманитарный научный фонд (РГНФ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ФФИ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ttp://www.rfbr.ru/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0" t="10799" r="47246" b="35996"/>
          <a:stretch/>
        </p:blipFill>
        <p:spPr>
          <a:xfrm>
            <a:off x="142920" y="928800"/>
            <a:ext cx="87152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ты Президента РФ молодым ученым и ведущим научным школам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extech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0" t="7199" r="0" b="3600"/>
          <a:stretch/>
        </p:blipFill>
        <p:spPr>
          <a:xfrm>
            <a:off x="142920" y="1357200"/>
            <a:ext cx="9353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оссийские фонды и гран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ая   целевая   программа   «Научные   и   научно-педагогические кадры    инновационной    России»    на    2009-2013    годы: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cpk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adryedu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ая    стипендиальная    программа    Благотворительного    фонда В.Потанина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ipendia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    Михаила    Прохорова    (Благотворительный    фонд    культурных инициатив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prokhorovfund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 «Новая Евразия»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eurasia.msk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рубежные фонды 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D (Deutscher Akademischer Austauschdienst)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daad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daad.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U (Central European University)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ceu.h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R/ACCELS (American Council of Teachers of Russia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ouncil for Collaboration in Education and Language Study)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americancouncils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von Humboldt Stiftung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avh.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Council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britishcouncil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RS (Centre National de la Recherche Scientifique)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cnrs.f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Commiss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cordis.europa.eu/fp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Science Foundat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esf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d Foundat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fordfound.or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lbright Program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fulbright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E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овет по международным исследованиям и обменам)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irex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0" t="10799" r="40497" b="7199"/>
          <a:stretch/>
        </p:blipFill>
        <p:spPr>
          <a:xfrm>
            <a:off x="428760" y="0"/>
            <a:ext cx="788184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ы формирования национальной инновационной систем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густ 2000г. «совет по науке и высоким технологиям при президент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ноября 2001г. Был создан этот со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декабря 2001г. Необходим переход от сырьевой экономике к инновацио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абрь 2001г. Министерство промышленности науки и технологий начиная прием проектов, чтобы выбрать 8-10 критических, технологиче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марта 2002г. Происходит совместное заседание совета по науке и вычислительным технологиям при президенте РФ, президиума государственного совета и совета безопасности, во главе с В.В. Путиным. Документ «об основах политики РФ в области развития науки и технологий на период до 2010и дальнейшую перспекти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ая функция государства в условиях рыночных 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ы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ноября 2002г. Министерство промышленной науки и технологии представляет концепцию развития венчурной индустри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декабря 2002г. Министерство по науке объявляет об открытых конкурсах на заключительных государственных контрактах на 2003-2006г.г. важнейших инновационных проектов государственного значения за счет выделяемых средств федерального бюдж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декабря 2002г. Косьянов: «Основные направления государственных инвестиций политики РФ в сфере науки и технолог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варь 2003г. Произошло очередное замещение обсуждение проблемы коммерциализации технологий и развития инновационной инфраструктуры. Совет по науке совместно с правительством вырабатывает новые и соединяет экономические, производственные интересы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ом квартале 2003г. Рассматривается концепция национально-инновационной системы, была учрежд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РФ"/>
          <p:cNvPicPr/>
          <p:nvPr/>
        </p:nvPicPr>
        <p:blipFill>
          <a:blip r:embed="rId1"/>
          <a:stretch/>
        </p:blipFill>
        <p:spPr>
          <a:xfrm>
            <a:off x="252360" y="0"/>
            <a:ext cx="85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США"/>
          <p:cNvPicPr/>
          <p:nvPr/>
        </p:nvPicPr>
        <p:blipFill>
          <a:blip r:embed="rId1"/>
          <a:stretch/>
        </p:blipFill>
        <p:spPr>
          <a:xfrm>
            <a:off x="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Япон"/>
          <p:cNvPicPr/>
          <p:nvPr/>
        </p:nvPicPr>
        <p:blipFill>
          <a:blip r:embed="rId1"/>
          <a:srcRect l="0" t="0" r="3969" b="0"/>
          <a:stretch/>
        </p:blipFill>
        <p:spPr>
          <a:xfrm>
            <a:off x="0" y="0"/>
            <a:ext cx="931068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ю государственного регулирования предпринимательской деятельности является создание определенных условий, обеспечивающих нормальное функционирование экономики в целом и стабильное участие предпринимателей страны в международном разделении труда и получение от этого оптимальных вы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ямые методы регул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ное финансирование НИО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. контроль закупок зарубежных технологий и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е страхование коммерческого риска инновацион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сидирование разработок в военных отраслях и передача  полученных результатов гражданским и т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венны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стимулов и мотивов пред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говая, ценовая, таможенная, кредитная, амортизационная по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регулирования инновационной деятель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о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о-прав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государственного регулирования инновацион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69720"/>
            <a:ext cx="91440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 Создание специальных структур, проводящих политику в данной сфе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 Выделение из государственного бюджета средств на финансирование инновацио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 Инвентаризация, стоимостная оценка, учет и введение в хозяйственный оборот прав на результаты научно-технической деятельности, полученные при выполнении научно-исследовательских, опытно-конструкторских и технологических работ, полностью или частично финансировавшихся за счет средств федерального бюджета РФ, а также из средств государственных внебюджетных фон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существление амортизационной и налоговой политики, направленной на стимулирование инновацио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Информационное обеспечение инновацио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осударственная научно-техническая и инновационная поли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 России реализуется на двух уровнях деятельности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щегосударственно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едеральном)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альн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естном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7:25:40Z</dcterms:created>
  <dc:creator>Olga</dc:creator>
  <dc:description/>
  <dc:language>en-US</dc:language>
  <cp:lastModifiedBy>dgim</cp:lastModifiedBy>
  <dcterms:modified xsi:type="dcterms:W3CDTF">2010-03-30T03:24:47Z</dcterms:modified>
  <cp:revision>10</cp:revision>
  <dc:subject/>
  <dc:title>Государственное регулирование инновационной деятельности</dc:title>
</cp:coreProperties>
</file>