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075-6B5F-431E-A2E5-BC37FF4F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C32-4B80-4821-990C-311FE040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79E-1176-423A-8EE0-2F1078D7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12B-DDC2-4716-8966-45C8D197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206-59D7-48E1-96C3-AAC07F30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063-8C72-4EEF-AFD5-383E1BFD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9BD-127B-4595-8E43-736E52D5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011-0E31-4C1B-B5E0-11ACD538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669-FF44-47C6-9D14-30153289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ED1-C2CC-4B54-99D2-9EF169C4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6A6-5D9C-44C1-8207-AD471CEF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35D-7550-404F-9B6C-6D8A202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BEFA-E222-4A01-8165-AB670031B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атегии виолентов, патиентов, коммутантов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сплер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1E38-9AAE-4A48-8172-7B60F37F7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акторы, определяющ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, сложность и иерархичность организационной структуры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штаб производства и объем прод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енклатура выпускаемой проду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и уровень унификации проду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специализации, концентрации, комбинирования и кооперирования производ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развития инфраструктуры регио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ая интегрированность предприятия (фирмы, организации)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A75C-24B2-4F88-93D1-C78F79B04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ей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лин модель.jpg"/>
          <p:cNvPicPr/>
          <p:nvPr/>
        </p:nvPicPr>
        <p:blipFill>
          <a:blip r:embed="rId1"/>
          <a:srcRect l="23903" t="13423" r="26715" b="15340"/>
          <a:stretch/>
        </p:blipFill>
        <p:spPr>
          <a:xfrm>
            <a:off x="785880" y="1857240"/>
            <a:ext cx="5333760" cy="5643720"/>
          </a:xfrm>
          <a:prstGeom prst="rect">
            <a:avLst/>
          </a:prstGeom>
          <a:ln w="0">
            <a:noFill/>
          </a:ln>
        </p:spPr>
      </p:pic>
      <p:sp>
        <p:nvSpPr>
          <p:cNvPr id="77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6F6C-FE7C-4673-82EB-D8EB2D8D2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она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65000" y="2195640"/>
            <a:ext cx="4969080" cy="595476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9767-E23B-4B3A-B83B-8B0F3D12B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280" y="39492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ейно-функциона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981000" y="1908000"/>
            <a:ext cx="5310360" cy="65278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E11D-8536-4482-80B0-CFC35B830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-32400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ричная (штабна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8640" y="922320"/>
            <a:ext cx="5886720" cy="788688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2CDB-F22E-4F3B-A5A4-1002A2C2B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-40824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игад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728640" y="826920"/>
            <a:ext cx="5454720" cy="8221680"/>
          </a:xfrm>
          <a:prstGeom prst="rect">
            <a:avLst/>
          </a:prstGeom>
          <a:ln w="0">
            <a:noFill/>
          </a:ln>
        </p:spPr>
      </p:pic>
      <p:sp>
        <p:nvSpPr>
          <p:cNvPr id="89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FB81-70D8-4390-992A-3130891C1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визиона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6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7D71-8C85-4649-9FED-A2F7BABDE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модель структ.jpg"/>
          <p:cNvPicPr/>
          <p:nvPr/>
        </p:nvPicPr>
        <p:blipFill>
          <a:blip r:embed="rId1"/>
          <a:srcRect l="3060" t="29650" r="14414" b="17318"/>
          <a:stretch/>
        </p:blipFill>
        <p:spPr>
          <a:xfrm>
            <a:off x="142920" y="2357280"/>
            <a:ext cx="65149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-3672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но-целевая структура круп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rcRect l="25841" t="24610" r="18458" b="4430"/>
          <a:stretch/>
        </p:blipFill>
        <p:spPr>
          <a:xfrm>
            <a:off x="0" y="1619280"/>
            <a:ext cx="6858000" cy="669780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87C0-9B11-4603-8914-C45BEB555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8640" y="-3970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хема реструктуризации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Рисунок2"/>
          <p:cNvPicPr/>
          <p:nvPr/>
        </p:nvPicPr>
        <p:blipFill>
          <a:blip r:embed="rId1"/>
          <a:stretch/>
        </p:blipFill>
        <p:spPr>
          <a:xfrm>
            <a:off x="981000" y="1131840"/>
            <a:ext cx="4907160" cy="790416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7158-E348-434C-B63F-1815A8CAD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менты рынка для различных форм иннов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89000" y="2363760"/>
            <a:ext cx="6210360" cy="4584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2295360" y="188424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пособление к ры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08240" y="68770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7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0697-8A61-44D6-B345-8EDD3CA20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олент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иловая) стратегия характерна для фирм, действующих в сфере крупного, стандартного производства. Фундаментальный источник сил — массовое производство продукции хорошего (среднего) качества по низким ценам. За счет этого фирма обеспечивает большой запас конкуренто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6CA2-A019-4EE3-8F5F-C639CDC61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тиент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ишевая) стратегия типична для фирм, вставших на путь узкой специализации для ограниченного круга потребителей. Свои дорогие и высококачественные товары они адресуют тем, кого не устраивает обычная проду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6A6E-AE9D-4DB4-9FC9-5EDF696E5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42720" y="444240"/>
            <a:ext cx="6172200" cy="77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ммутанти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единяющая) стратегия преобладает при обычном бизнесе в местных (локальных) масштабах. Сила местного неспециализированного предприятия в его лучшей приспособленности к удовлетворению небольших по объему (а нередко и кратковременных) нужд конкретного клиента. Это путь повышения потребительской ценности не за счет сверхвысокого качества (как у патиента), а за счет индивидуализации усл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A979-A852-407C-AAA6-C6B2FA1DD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ксплерент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ионерская) стратегия связана с созданием новых или с радикальным преобразованием старых сегментов рынка, это первопроходцы в поиске и реализации революционных решений преимущественно 1-го 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B356-3C16-4C0B-99EE-E9CC37A00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28640" y="2171880"/>
            <a:ext cx="5508720" cy="5721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68640" y="158904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6240" y="254160"/>
            <a:ext cx="67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ца «Издержки- потребительская цен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нахождения стратегии иннова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508200" y="8028000"/>
            <a:ext cx="299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ительная ц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качество) тов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7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34BF-B868-4C9B-86B0-3849D9FF1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>
            <a:endCxn id="61" idx="2"/>
          </p:cNvCxnSpPr>
          <p:nvPr/>
        </p:nvCxnSpPr>
        <p:spPr>
          <a:xfrm flipV="1">
            <a:off x="999000" y="1985400"/>
            <a:ext cx="5400" cy="229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ы инновационных организ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изводственная структура организации 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основных, вспомогательных и обслуживающих подразделений организации, обеспечивающих переработку ≪входа≫ системы в ее ≪выход≫ —готовый продукт, новшество и т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3500-2214-4321-BCB2-2B8385B7D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ганизационная структура 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отделов и служб, занимающихся построением и координацией функционирования системы инновационного менеджмента, разработкой и реализацией управленческих решений по выполнению бизнес-плана, инновационного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89A9-10DA-4C56-804E-A928A2DD8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4:04:28Z</dcterms:created>
  <dc:creator>Olga</dc:creator>
  <dc:description/>
  <dc:language>en-US</dc:language>
  <cp:lastModifiedBy>dgim</cp:lastModifiedBy>
  <dcterms:modified xsi:type="dcterms:W3CDTF">2010-04-30T03:16:08Z</dcterms:modified>
  <cp:revision>10</cp:revision>
  <dc:subject/>
  <dc:title>Стратегии виолентов, патиентов, коммутантов, эксплерентов</dc:title>
</cp:coreProperties>
</file>