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A0D-DFAE-4740-AE6B-C6D95B22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873-C24E-4F6D-AA00-79E48971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302-A543-46CC-B384-FE60E565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FCF-D6D6-4171-884D-54C355CD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C5B-3E52-428C-BE2D-CBE6B0B4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A5E-9EFB-4F2A-8031-5E331F10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4D3-73C4-4A71-9ABA-F1EA244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7B6-B0A0-415E-A560-B6AA8240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0AB-5A7A-4B8A-A395-A2F6015E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D80-F896-4AED-B26A-1E2C042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4D2-F406-4823-927E-E6F9F8D6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B69-61D9-4AEF-A9B7-36A93A4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6872-5BE8-4E24-9855-E14EF6882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92;&#1092;&#1077;&#1082;&#1090;_&#1084;&#1072;&#1089;&#1096;&#1090;&#1072;&#1073;&#107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экономического роста Р. Соло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7120" y="3567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k = sf(k) -(q +n+g)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5.jpg"/>
          <p:cNvPicPr/>
          <p:nvPr/>
        </p:nvPicPr>
        <p:blipFill>
          <a:blip r:embed="rId1"/>
          <a:srcRect l="0" t="0" r="52872" b="53399"/>
          <a:stretch/>
        </p:blipFill>
        <p:spPr>
          <a:xfrm>
            <a:off x="214200" y="1143000"/>
            <a:ext cx="8323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4000" y="260280"/>
          <a:ext cx="8820000" cy="5351400"/>
        </p:xfrm>
        <a:graphic>
          <a:graphicData uri="http://schemas.openxmlformats.org/drawingml/2006/table">
            <a:tbl>
              <a:tblPr/>
              <a:tblGrid>
                <a:gridCol w="1190520"/>
                <a:gridCol w="2967120"/>
                <a:gridCol w="1137960"/>
                <a:gridCol w="982800"/>
                <a:gridCol w="2541600"/>
              </a:tblGrid>
              <a:tr h="128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ы экономического ро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технолог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Y/Y=aDK/K+(1-a)DL/L+DA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-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1-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1-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-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ловия мод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тсутствии одного из факторов выпуск является нуле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ельные продуктивности факторов являются положи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увеличении объемов ресурсов выпуск возраст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увеличении объемов ресурсов предельная производительность уменьш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еограниченном увеличении одного из ресурсов выпуск также неограниченно увелич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 сбережения капитала (инвестиции) является постоя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 выбывания капитала является постоя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одственная функция обладает постоянной отдачей от масштаба (единичным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ффектом масштаб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y = c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= (1 – S) 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Y = (1-S) Y + 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= s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= sf (k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51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48400" y="18792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Dk = i – q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53080" y="105192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k = sf(k) – q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6769440" cy="508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5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 = y – 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q + n)k*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* = f(k*) – (q+n)k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156360"/>
        </p:xfrm>
        <a:graphic>
          <a:graphicData uri="http://schemas.openxmlformats.org/drawingml/2006/table">
            <a:tbl>
              <a:tblPr/>
              <a:tblGrid>
                <a:gridCol w="4022640"/>
                <a:gridCol w="4070520"/>
                <a:gridCol w="1050840"/>
              </a:tblGrid>
              <a:tr h="13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 на единицу труда с постоянной эффективно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= K / (L х 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 –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ость труда (здоровье, образование, квалификация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производства на единицу труда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стоянной эффективно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Y / (ExL) = f(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производства на одного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/L = 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объём произв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y(E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+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29:13Z</dcterms:created>
  <dc:creator>Olga</dc:creator>
  <dc:description/>
  <dc:language>en-US</dc:language>
  <cp:lastModifiedBy>media</cp:lastModifiedBy>
  <dcterms:modified xsi:type="dcterms:W3CDTF">2010-02-19T06:06:41Z</dcterms:modified>
  <cp:revision>5</cp:revision>
  <dc:subject/>
  <dc:title>Модель экономического роста Р. Солоу </dc:title>
</cp:coreProperties>
</file>