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C84-3392-4435-B13C-FEAA276B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D29-B487-42E3-8A2B-C6162CD3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504-C07C-4530-80BD-315A97EB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509-3485-4A08-9ECA-DC348EF4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AE6D-26F6-43B4-995E-71DEAA54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1165-7868-490B-9846-76372DC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E2D-2AE6-4518-A86A-B5B2BE71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6FC-DF08-4FC1-B7BC-0FB58BA5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1356-317B-4DE5-9A1F-D7BAEAD8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487E-0914-43B6-B8A6-E1C4BB54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3BF7-7FC6-48B9-BA57-C501B8D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A5F-9354-4780-B6A7-5A6710D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4C1F-56FC-4CDB-BF7A-D094085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E99-D202-46A2-81CC-D496701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F63-E450-46AA-AE3F-36056CDC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3327-C6CF-450E-A0F9-B38734D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1F73-02E4-4880-81F9-229CAF59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4C9-63DC-4A93-886D-FAADF3B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F9F-6A25-4CCF-884F-154F38B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F7B-EE94-439E-97B2-D98CD73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C18-9C19-4C3B-8505-ABC2A9E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279-6497-4DDF-B3F4-AA9F9F2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33B-36A4-4C61-8B9C-61BF16D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1CB-80E1-40D5-B29E-CFAD764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210-E4FD-41D7-AD78-ABD06AEBF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195-059E-40D7-828E-6C34AE0E2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Экспертиза инновационных проект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3. финансово-экономическая оце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нансовая экспертиза состояния организации посредством определения показателей ее финансовой деятельности, предшествующей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коммерческой, бюджетной и экономической эффективности инвестиций в проект, реализуемый этой организ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Определение эффективности проекта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 дисконтированный доход (ЧДД) или интегральный эффект, или чистая приведенная стоимост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 доходности (ИД) или индекс прибыль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яя норма доходности (ВНД) или внутренняя норма приб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окупае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цедура выполнения проект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снование и выбор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ение первоначального плана реализации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запуск»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ственно реализация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экспертиза выполняет функции: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нозирование экспертами и специалистами в конкретных узких областях знаний различных показателей технического уровня проекта, времени на его осуществление, затрат, предполагаемых доходов, объема рынка, величины спрос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бщение полученных оценок экспертов с помощью специальных как теоретических, так и неформальных методов, на основании которых принимается окончательное решение о целесообразности осуществления иннов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сесторонние исследования проект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рчески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онны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й анал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процесс обработки и анализа инвестиционных предложений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варительная экспертиза инвестиционной заявки, предписывающей представлению бизнес-плана инвестицион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висимая экспертиза, включающая всесторонний и детальный анализ бизнес-плана инвестицион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ие решения о финансирован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предварительная экспертиза инвестиционной заявк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вление соответствия инвестиционного предложения, оформленного в виде заявки, – целям, приоритетам и предназначению источника финансирования. Это соответствие выявляется сопоставлением приоритетов, существенно значимых для инвестора и конечных результат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езависимая экспертиз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перечня критериев, которые необходимо принять во внимание при рассмотрении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ьная оценка проектов, в т.ч. с учетом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нансово-экономическая оценка проектов, включающая методы дисконтирования денежных потоков и определение срока окупаемости инвест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. Критерии отбора проектов подразделяются (условно) следующие группы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ы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ие и экологически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 реципиента, осуществляющего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 научно-технической персп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ерчески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енны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е кри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 региональных особенностей реализации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2. Бальная оценк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ются наиболее важные факторы, оказывающие влияние на результаты проекта (составляется перечень критери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ериям присваиваются веса в зависимости от их значимости (оценка значимости дается экспертами на основании прошлого опыта или проведенного социологического опроса среди потреб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енные оценки по каждому из названных критериев (низкая, средняя, высокая) выражается количе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4:56:01Z</dcterms:created>
  <dc:creator>Olga</dc:creator>
  <dc:description/>
  <dc:language>en-US</dc:language>
  <cp:lastModifiedBy>Olga</cp:lastModifiedBy>
  <dcterms:modified xsi:type="dcterms:W3CDTF">2010-05-21T16:10:00Z</dcterms:modified>
  <cp:revision>3</cp:revision>
  <dc:subject/>
  <dc:title>Экспертиза инновационных проектов </dc:title>
</cp:coreProperties>
</file>