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40D-B3A9-43AE-8F02-E6278C96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4A6-D8F7-4763-8ADD-DDE0980E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98B-1D8D-4C2D-9C85-513CDBF8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0CF8-4C9D-4C4F-A0B4-C01C2155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0855-8349-4FF1-ADAE-7244041B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F77C-328E-44F1-91E1-96A8BEC2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75F3-EFF4-4F1E-A12B-4DF33CAC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2FE-C8F2-46EA-B4BC-F91714BD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1C8-8702-400C-B1AD-B69FF735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5F34-22CD-4893-8736-07FFFD5C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BEDB-5B3A-4FB0-A413-44D4D829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A2F8-DC9D-476D-AD40-5A2E6C81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4DD6-2513-4E4D-B1F9-9ACFEADC2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280" y="1690200"/>
            <a:ext cx="60469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авовая защита интеллектуальной собственнос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04640" y="108000"/>
          <a:ext cx="6172200" cy="8950320"/>
        </p:xfrm>
        <a:graphic>
          <a:graphicData uri="http://schemas.openxmlformats.org/drawingml/2006/table">
            <a:tbl>
              <a:tblPr/>
              <a:tblGrid>
                <a:gridCol w="6172200"/>
              </a:tblGrid>
              <a:tr h="41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первой группе относятся объекты, интеллектуальной собственности, которые могут быть закреплены за физическими и юридическими лицами в форме авторского права, изобретательского и патентного права, права на промышленные образцы, полезные модели, звукозаписи, радио- и телевизионные передачи, программы для электронных вычислительных машин и баз данных и п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 второй группе относятся объекты промышленной и интеллектуальной собственности, которые обеспечиваются правами в пределах сформулированных понятий или установленного перечня сведений (коммерческие сведения, промышленные секреты, «ноу-хау»)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третьей группе относятся объекты, не определенные правами, регулирование которых осуществляется в договорной форме или на уровне локальных акт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ременные рамки для различных действий, предусмотренны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патентным законом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3360" y="1258920"/>
          <a:ext cx="6335640" cy="7102440"/>
        </p:xfrm>
        <a:graphic>
          <a:graphicData uri="http://schemas.openxmlformats.org/drawingml/2006/table">
            <a:tbl>
              <a:tblPr/>
              <a:tblGrid>
                <a:gridCol w="2590920"/>
                <a:gridCol w="1512720"/>
                <a:gridCol w="182520"/>
                <a:gridCol w="825480"/>
                <a:gridCol w="12240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ет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езная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ышленный образе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после опубликования све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ме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ме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ме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исправ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иза зая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льная эксперти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два часа после подачи зая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атайство о проведен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изы по существ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овод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д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жение на решение об отка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е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е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лоба на решение об отка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ме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ме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убликование сведений о заявках и патен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дения о заяв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ме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овод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дения о патен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завершения рассмот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пат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ый срок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лата годовых пош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3-го года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-го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3-го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тент — это документ, удостоверяющий авторство и предоставляющий его владельцу исключительное право на изобретение. Под этим подразумевается, что никто не может использовать изобретение без согласия владельца патен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33000" y="395280"/>
            <a:ext cx="6172200" cy="76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д «ноу-хау» «знать, как сделать» обычно поним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хнологические, конструкторские решения и секреты, не охраняемые патентами, или нововведения, которые могли бы быть защищены патентами, но незапатентованы по тем или иным причин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фиденциальные сведения различного харак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сновные признаки «ноу-хау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известность неопределенному кругу лиц и отсутствие свободного доступа к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личие явных усилий владельца «ноу-хау» по его сохранению в секр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мерческая и промышленная ценность соответствующе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правомерное использование «ноу-хау» влечет за собой имущественную ответственность, которая включает в себя компенсацию его владельцу прямого ущерба, упущенной выгоды и моральных издерж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цензионные соглаш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остоятельные, которые предусматривают, что технология или технологические знания передаются независимо от места и условий их предстоящего исполь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путствующие, когда одновременно с передачей лицензии заключается контракт на строительство, поставку оборудования и комплектующих узлов или оказание инжиниринговых услу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42720" y="539280"/>
            <a:ext cx="6172200" cy="762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цензирование представляет собой одну из основных форм торговли технологиями, включающей сделки с патентами, лицензиями, ноу-хау и т. 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цензия представляет собой разрешение отдельным лицам или организациям использовать изобретение, защищенное патентом, технические знания, технологические и конструкторские секреты производства, товарный знак 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оплат по догово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ялти – регулярные платежи, размер которых устанавливается в виде доли прибыли или суммы продаж продукции, произведенной по лицен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ушальный платеж – фиксированная сумма вознаграждения (выплачивается единовременно или по частям; применяется в ограниченном числе случаев, в том числе, при продаже лицензии вместе с оборудованием, при продаже лицензии неизвестной организации, при опасности утечки производственных секретов, а также тогда, когда лицензиат не хочет допустить контроля над своей деятельностью или существуют ограничения на перевод прибыли из страны, где расположен лицензиа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лицензий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исключительная (простая) лицензия позволяет лицензиару самому использовать изобретения или технические знания или выдавать лицензию другим лиц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ключительная лицензия лишает лицензиара права использовать изобретение или технические знания в пределах определенной территории и предоставлять ее на данное изобретение другим лицам для использования в пределах территории, на которой действует лицензиат (разновидность данной лицензии – ограниченная исключительная лицензия – сужает возможность лицензиата по использованию лицензии за пределами обозначенной в лицензионном соглашении территор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лная лицензия предполагает полный отказ лицензиара от самостоятельного использования изобрет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16:40:00Z</dcterms:created>
  <dc:creator>Olga</dc:creator>
  <dc:description/>
  <dc:language>en-US</dc:language>
  <cp:lastModifiedBy>Olga</cp:lastModifiedBy>
  <dcterms:modified xsi:type="dcterms:W3CDTF">2010-05-07T17:53:43Z</dcterms:modified>
  <cp:revision>3</cp:revision>
  <dc:subject/>
  <dc:title>Правовая защита интеллектуальной собственности </dc:title>
</cp:coreProperties>
</file>